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_rels/notesSlide6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3123-32CA-41A0-B872-7D975612D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is in the money if spot price is greater than strike price (opposite for a pu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plicating portfolio consists of buying one share of stock today and borrowing the present value of $21.25. The payoffs to the portfolio are twice those of the call; therefore, the portfolio is worth twice as much as a call. Since we can value the portfolio, we can value the c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options calculator at Numa to compute the equity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V of assets = current MV + NP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ssume no increase in debt as a result of th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iscussion is consistent with Selfish Strategy 1 discussed in the chapter on bankrupt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91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91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5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70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5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70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77429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91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77429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91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77429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91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91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21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91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91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45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70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21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45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70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91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77429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91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91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91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91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666880" cy="6858000"/>
          </a:xfrm>
          <a:prstGeom prst="rect">
            <a:avLst/>
          </a:prstGeom>
          <a:solidFill>
            <a:srgbClr val="bce07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d7742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153280" y="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4914137-FEE0-4EA8-BD82-A62D3635A7F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09880" y="6583320"/>
            <a:ext cx="533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pyright © 2008 by The McGraw-Hill Companies, Inc. All rights reserved</a:t>
            </a:r>
            <a:r>
              <a:rPr b="0" lang="en-US" sz="1200" spc="-1" strike="noStrike">
                <a:solidFill>
                  <a:srgbClr val="e6e6e6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0"/>
            <a:ext cx="2666880" cy="6858000"/>
          </a:xfrm>
          <a:prstGeom prst="rect">
            <a:avLst/>
          </a:prstGeom>
          <a:solidFill>
            <a:srgbClr val="bce07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d7742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6583320"/>
            <a:ext cx="533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pyright © 2008 by The McGraw-Hill Companies, Inc. All rights reserved</a:t>
            </a:r>
            <a:r>
              <a:rPr b="0" lang="en-US" sz="1200" spc="-1" strike="noStrike">
                <a:solidFill>
                  <a:srgbClr val="e6e6e6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133720"/>
            <a:ext cx="2209680" cy="22096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990720"/>
            <a:ext cx="2438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Book Antiqua"/>
              </a:rPr>
              <a:t>CHAP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66688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Book Antiqua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77429"/>
                </a:solidFill>
                <a:latin typeface="Book Antiqua"/>
              </a:rPr>
              <a:t>Click to edit the outline text format</a:t>
            </a:r>
            <a:endParaRPr b="1" lang="en-US" sz="4000" spc="-1" strike="noStrike">
              <a:solidFill>
                <a:srgbClr val="d77429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numa.com/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52320" y="26665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77429"/>
                </a:solidFill>
                <a:latin typeface="Book Antiqua"/>
              </a:rPr>
              <a:t>Options and Corporate Finance</a:t>
            </a:r>
            <a:endParaRPr b="1" lang="en-US" sz="4000" spc="-1" strike="noStrike">
              <a:solidFill>
                <a:srgbClr val="d77429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22.3 Put Option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 options gives the holder the right, but not the obligation, to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e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given quantity of an asset on or before some time in the future, at prices agreed upon to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exercising a put, you “put” the asset to some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8316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Put Option Pricing at Expiry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1160" y="990720"/>
            <a:ext cx="762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expiry, an American put option is worth the same as a European option with the same characteristic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 put is in-the-money, it is worth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 put is out-of-the-money, it is worthl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0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Put Option Payoff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990720"/>
            <a:ext cx="0" cy="502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038480"/>
            <a:ext cx="5333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816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9360" y="4054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0080" y="4054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4054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68880" y="4054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02360" y="4040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7320" y="4054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8120" y="5716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4800" y="2973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90600" y="3902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4800" y="1996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4800" y="1144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5640" y="437364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ck 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-19080" y="23205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on payoff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3900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900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3900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3900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29160" y="3886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295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22240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240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4967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5867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85880" y="379404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uy a 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052880"/>
            <a:ext cx="3009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1752480"/>
            <a:ext cx="2286000" cy="228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638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price = $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11680" y="4205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40514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4800" y="161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176544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Put Option Profit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990720"/>
            <a:ext cx="0" cy="502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4038480"/>
            <a:ext cx="4724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8120" y="4740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40080" y="4054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54480" y="4054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68880" y="4054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02360" y="4040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7320" y="4054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8120" y="56404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4800" y="2909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4800" y="1996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4800" y="1144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5640" y="380988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ck 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-19080" y="23205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on payoff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3900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3900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886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3900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29160" y="3886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295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22240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31240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967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5867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7800" y="441972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uy a 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4495680"/>
            <a:ext cx="22100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209680"/>
            <a:ext cx="2286000" cy="228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5638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price = $50; option premium = $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449568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8120" y="42670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449424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68120" y="33670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57984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898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11680" y="40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Option Value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31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insic Va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: Max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: Max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ulative Va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the option premium and the intrinsic value of the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143000" y="4876920"/>
            <a:ext cx="7534440" cy="1078200"/>
            <a:chOff x="1143000" y="4876920"/>
            <a:chExt cx="7534440" cy="1078200"/>
          </a:xfrm>
        </p:grpSpPr>
        <p:sp>
          <p:nvSpPr>
            <p:cNvPr id="259" name=""/>
            <p:cNvSpPr/>
            <p:nvPr/>
          </p:nvSpPr>
          <p:spPr>
            <a:xfrm>
              <a:off x="1143000" y="4876920"/>
              <a:ext cx="1862280" cy="107820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50196"/>
                  </a:srgbClr>
                </a:gs>
                <a:gs pos="50000">
                  <a:srgbClr val="ffffff"/>
                </a:gs>
                <a:gs pos="100000">
                  <a:srgbClr val="bbe0e3">
                    <a:alpha val="5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80" bIns="514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031760"/>
                  <a:tab algn="l" pos="2063880"/>
                  <a:tab algn="l" pos="3095640"/>
                  <a:tab algn="l" pos="4127400"/>
                  <a:tab algn="l" pos="5159520"/>
                  <a:tab algn="l" pos="6191280"/>
                  <a:tab algn="l" pos="7223040"/>
                  <a:tab algn="l" pos="8255160"/>
                  <a:tab algn="l" pos="9286920"/>
                  <a:tab algn="l" pos="103186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ption Premiu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73320" y="5140440"/>
              <a:ext cx="8463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80" bIns="514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031760"/>
                  <a:tab algn="l" pos="2063880"/>
                  <a:tab algn="l" pos="3095640"/>
                  <a:tab algn="l" pos="4127400"/>
                  <a:tab algn="l" pos="5159520"/>
                  <a:tab algn="l" pos="6191280"/>
                  <a:tab algn="l" pos="7223040"/>
                  <a:tab algn="l" pos="8255160"/>
                  <a:tab algn="l" pos="9286920"/>
                  <a:tab algn="l" pos="103186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54320" y="4876920"/>
              <a:ext cx="1694160" cy="107820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50000">
                  <a:srgbClr val="000000"/>
                </a:gs>
                <a:gs pos="100000">
                  <a:srgbClr val="808080">
                    <a:alpha val="5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80" bIns="514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031760"/>
                  <a:tab algn="l" pos="2063880"/>
                  <a:tab algn="l" pos="3095640"/>
                  <a:tab algn="l" pos="4127400"/>
                  <a:tab algn="l" pos="5159520"/>
                  <a:tab algn="l" pos="6191280"/>
                  <a:tab algn="l" pos="7223040"/>
                  <a:tab algn="l" pos="8255160"/>
                  <a:tab algn="l" pos="9286920"/>
                  <a:tab algn="l" pos="1031868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Intrinsic Valu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77120" y="4876920"/>
              <a:ext cx="2200320" cy="1078200"/>
            </a:xfrm>
            <a:prstGeom prst="rect">
              <a:avLst/>
            </a:prstGeom>
            <a:gradFill rotWithShape="0">
              <a:gsLst>
                <a:gs pos="0">
                  <a:srgbClr val="006600">
                    <a:alpha val="50196"/>
                  </a:srgbClr>
                </a:gs>
                <a:gs pos="50000">
                  <a:srgbClr val="000000"/>
                </a:gs>
                <a:gs pos="100000">
                  <a:srgbClr val="006600">
                    <a:alpha val="5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80" bIns="514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031760"/>
                  <a:tab algn="l" pos="2063880"/>
                  <a:tab algn="l" pos="3095640"/>
                  <a:tab algn="l" pos="4127400"/>
                  <a:tab algn="l" pos="5159520"/>
                  <a:tab algn="l" pos="6191280"/>
                  <a:tab algn="l" pos="7223040"/>
                  <a:tab algn="l" pos="8255160"/>
                  <a:tab algn="l" pos="9286920"/>
                  <a:tab algn="l" pos="1031868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peculative Valu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48480" y="5052960"/>
              <a:ext cx="7617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80" bIns="514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031760"/>
                  <a:tab algn="l" pos="2063880"/>
                  <a:tab algn="l" pos="3095640"/>
                  <a:tab algn="l" pos="4127400"/>
                  <a:tab algn="l" pos="5159520"/>
                  <a:tab algn="l" pos="6191280"/>
                  <a:tab algn="l" pos="7223040"/>
                  <a:tab algn="l" pos="8255160"/>
                  <a:tab algn="l" pos="9286920"/>
                  <a:tab algn="l" pos="103186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22.4 Selling Option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ller (or writer) of an option ha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li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ller receives the option premium in ex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Call Option Payoff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1066680"/>
            <a:ext cx="0" cy="502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4114800"/>
            <a:ext cx="66740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44440" y="4892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05680" y="412920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16400" y="4130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30800" y="4130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45200" y="4130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78320" y="4116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73640" y="4130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4440" y="5792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20760" y="3049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20760" y="2073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20760" y="1220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91600" y="444960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ck 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56880" y="23968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on payoff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00800" y="397656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34280" y="397656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397656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397656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397656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05480" y="39625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1371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23004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32004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76520" y="5043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5943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2766600">
            <a:off x="5321520" y="538200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ell a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828800" y="4114800"/>
            <a:ext cx="2286000" cy="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4114800"/>
            <a:ext cx="20574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5715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price = $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88000" y="4281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41274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191120" y="3289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Put Option Payoff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066680"/>
            <a:ext cx="0" cy="502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32767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20760" y="4054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01640" y="329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92360" y="3292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06760" y="3292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21160" y="3292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54640" y="3278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49960" y="3292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20760" y="4954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7080" y="2211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2880" y="3139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97080" y="1235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20400" y="5410080"/>
            <a:ext cx="5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67920" y="36115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ck 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118800" y="23968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on payoff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77120" y="31384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31384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33920" y="31384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48320" y="31384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81800" y="31240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55609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52480" y="146196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52480" y="23623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52480" y="420516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510552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467120" y="297180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ell a 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91120" y="3276720"/>
            <a:ext cx="3200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905120" y="3276720"/>
            <a:ext cx="2286000" cy="228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4876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price = $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63960" y="3443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Option Diagrams Revisited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091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price = $50; option premium = $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0080" y="53355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ell a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3276720"/>
            <a:ext cx="228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3276720"/>
            <a:ext cx="2286000" cy="228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114800" y="1905120"/>
            <a:ext cx="2286000" cy="2286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4191120"/>
            <a:ext cx="2286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44720" y="16779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Buy a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13716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52480" y="373392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88000" y="3733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45200" y="3824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30800" y="3809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03800" y="3824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44440" y="5411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20760" y="1692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91600" y="358128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ck 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56880" y="20160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on payoff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00800" y="3657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83120" y="3670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3670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3656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76520" y="191916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5562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28800" y="1905120"/>
            <a:ext cx="2286000" cy="228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14800" y="4191120"/>
            <a:ext cx="2286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77480" y="4040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Buy a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828800" y="3276720"/>
            <a:ext cx="2286000" cy="22860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14800" y="3276720"/>
            <a:ext cx="2286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77120" y="30495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Sell a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44440" y="39625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41893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44080" y="30621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76520" y="32749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831680" y="386064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Buy a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8954600">
            <a:off x="1679760" y="484452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Sell a 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794200">
            <a:off x="1967760" y="20714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Buy a 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33480" y="29718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Sell a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22.5 Option Quote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19320" y="1905120"/>
          <a:ext cx="7391160" cy="334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7391160" cy="33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Key Concepts and Skill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3818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ption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determine option payoffs and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major determinants of option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nd apply put-call p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determine option prices using the binomial and Black-Schole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Option Quote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211400" y="1992240"/>
          <a:ext cx="7391160" cy="33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1400" y="1992240"/>
                    <a:ext cx="73911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1219320" y="1371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ption has a strike price of $13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35280" y="3581280"/>
            <a:ext cx="68580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87360" y="3581280"/>
            <a:ext cx="106704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58760" y="54100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cent price for the stock is $138.2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573360" y="3581280"/>
            <a:ext cx="68580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832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is the expiration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3360" y="3731040"/>
            <a:ext cx="2742840" cy="20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387" y="19490"/>
                </a:moveTo>
                <a:arcTo wR="10800" hR="10800" stAng="7585777" swAng="6717171"/>
                <a:lnTo>
                  <a:pt x="10800" y="10800"/>
                </a:lnTo>
                <a:close/>
              </a:path>
              <a:path fill="none" w="21600" h="21600">
                <a:moveTo>
                  <a:pt x="4387" y="19490"/>
                </a:moveTo>
                <a:arcTo wR="10800" hR="10800" stAng="7585777" swAng="671717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-1380240" y="3872160"/>
            <a:ext cx="8686440" cy="341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6" y="13092"/>
                </a:moveTo>
                <a:arcTo wR="10800" hR="10800" stAng="10065003" swAng="5009972"/>
                <a:lnTo>
                  <a:pt x="10800" y="10800"/>
                </a:lnTo>
                <a:close/>
              </a:path>
              <a:path fill="none" w="21600" h="21600">
                <a:moveTo>
                  <a:pt x="246" y="13092"/>
                </a:moveTo>
                <a:arcTo wR="10800" hR="10800" stAng="10065003" swAng="500997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125800" y="1636920"/>
            <a:ext cx="4419000" cy="22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26" y="20487"/>
                </a:moveTo>
                <a:arcTo wR="10800" hR="10800" stAng="6974149" swAng="6694568"/>
                <a:lnTo>
                  <a:pt x="10800" y="10800"/>
                </a:lnTo>
                <a:close/>
              </a:path>
              <a:path fill="none" w="21600" h="21600">
                <a:moveTo>
                  <a:pt x="6026" y="20487"/>
                </a:moveTo>
                <a:arcTo wR="10800" hR="10800" stAng="6974149" swAng="6694568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000"/>
                            </p:stCondLst>
                            <p:childTnLst>
                              <p:par>
                                <p:cTn id="5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0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Option Quote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066680" y="2220840"/>
          <a:ext cx="7391520" cy="33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20840"/>
                    <a:ext cx="739152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1189080" y="1371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kes a call option with this exercise price in-the-money by $3.25 = $138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13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5638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with this exercise price are out-of-the-mo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Option Quote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066680" y="1322280"/>
          <a:ext cx="7391520" cy="33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22280"/>
                    <a:ext cx="739152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4305240" y="2911320"/>
            <a:ext cx="106704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62120" y="4892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is day, 2,365 call options with this exercise price were tr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1599840" y="2342520"/>
            <a:ext cx="2894760" cy="263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74" y="21530"/>
                </a:moveTo>
                <a:arcTo wR="10800" hR="10800" stAng="5791224" swAng="5172428"/>
                <a:lnTo>
                  <a:pt x="10800" y="10800"/>
                </a:lnTo>
                <a:close/>
              </a:path>
              <a:path fill="none" w="21600" h="21600">
                <a:moveTo>
                  <a:pt x="9574" y="21530"/>
                </a:moveTo>
                <a:arcTo wR="10800" hR="10800" stAng="5791224" swAng="5172428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Option Quote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295280" y="1976400"/>
          <a:ext cx="7391520" cy="33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76400"/>
                    <a:ext cx="739152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83808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LL option with a strike price of $135 is trading for $4.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3565440"/>
            <a:ext cx="68580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5425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option is on 100 shares of stock, buying this option would cost $475 plus commi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-21613320" y="-24480"/>
            <a:ext cx="28473480" cy="607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6" y="15601"/>
                </a:moveTo>
                <a:arcTo wR="10800" hR="10800" stAng="9216366" swAng="2281886"/>
                <a:lnTo>
                  <a:pt x="10800" y="10800"/>
                </a:lnTo>
                <a:close/>
              </a:path>
              <a:path fill="none" w="21600" h="21600">
                <a:moveTo>
                  <a:pt x="1126" y="15601"/>
                </a:moveTo>
                <a:arcTo wR="10800" hR="10800" stAng="9216366" swAng="2281886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Option Quote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219320" y="1447920"/>
          <a:ext cx="7391160" cy="334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7391160" cy="33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6553080" y="2960640"/>
            <a:ext cx="106704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4941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is day, 2,431 put options with this exercise price were tr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742840" y="3006360"/>
            <a:ext cx="5180760" cy="284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8" y="15970"/>
                </a:moveTo>
                <a:arcTo wR="10800" hR="10800" stAng="9084104" swAng="3855890"/>
                <a:lnTo>
                  <a:pt x="10800" y="10800"/>
                </a:lnTo>
                <a:close/>
              </a:path>
              <a:path fill="none" w="21600" h="21600">
                <a:moveTo>
                  <a:pt x="1318" y="15970"/>
                </a:moveTo>
                <a:arcTo wR="10800" hR="10800" stAng="9084104" swAng="385589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Option Quote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295280" y="2057400"/>
          <a:ext cx="7391520" cy="334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7391520" cy="33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838080" y="1143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T option with a strike price of $135 is trading for $.81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772400" y="3646440"/>
            <a:ext cx="99072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54259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option is on 100 shares of stock, buying this option would cost $81.25 plus commi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-4659120" y="1658160"/>
            <a:ext cx="12669480" cy="412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36" y="21565"/>
                </a:moveTo>
                <a:arcTo wR="10800" hR="10800" stAng="5675262" swAng="4925695"/>
                <a:lnTo>
                  <a:pt x="10800" y="10800"/>
                </a:lnTo>
                <a:close/>
              </a:path>
              <a:path fill="none" w="21600" h="21600">
                <a:moveTo>
                  <a:pt x="9936" y="21565"/>
                </a:moveTo>
                <a:arcTo wR="10800" hR="10800" stAng="5675262" swAng="4925695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22.6 Combinations of Option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49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s and calls can serve as the building blocks for more complex option contra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understand this, you can become a financial engineer, tailoring the risk-return profile to meet your client’s n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 flipV="1">
            <a:off x="2362320" y="1447920"/>
            <a:ext cx="3657600" cy="3657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32080" y="5099040"/>
            <a:ext cx="643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Protective Put Strategy (Payoffs)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5099040"/>
            <a:ext cx="2971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3849840"/>
            <a:ext cx="323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uy a put with an exercise price of $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362320" y="3286080"/>
            <a:ext cx="1828800" cy="1828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3657600"/>
            <a:ext cx="113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uy th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4191120" y="1447920"/>
            <a:ext cx="1828800" cy="18288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3286080"/>
            <a:ext cx="18288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4176720" y="5132520"/>
            <a:ext cx="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352600" y="174600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405160" y="1533600"/>
            <a:ext cx="25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otective Put pay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76520" y="3057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00200" y="48704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0" y="509904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0" y="32860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43280" y="54086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16095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at expi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38880" y="525132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stock at expi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65880" y="1673640"/>
            <a:ext cx="1507320" cy="107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3" y="1466"/>
                </a:moveTo>
                <a:arcTo wR="10800" hR="10800" stAng="-3588039" swAng="3588039"/>
                <a:lnTo>
                  <a:pt x="10800" y="10800"/>
                </a:lnTo>
                <a:close/>
              </a:path>
              <a:path fill="none" w="21600" h="21600">
                <a:moveTo>
                  <a:pt x="16233" y="1466"/>
                </a:moveTo>
                <a:arcTo wR="10800" hR="10800" stAng="-3588039" swAng="3588039"/>
              </a:path>
            </a:pathLst>
          </a:custGeom>
          <a:noFill/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380240" y="3886200"/>
            <a:ext cx="1506960" cy="107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733920" y="4048200"/>
            <a:ext cx="1599120" cy="107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72040" y="3424320"/>
            <a:ext cx="0" cy="1614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981080" y="405432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Protective Put Strategy (Profits)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67080" y="4511520"/>
            <a:ext cx="2971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981080" y="1539360"/>
            <a:ext cx="4343400" cy="4343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47401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uy a put with exercise price of $50 for $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2225520"/>
            <a:ext cx="2286000" cy="228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260760" y="1235160"/>
            <a:ext cx="22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uy the stock at $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267080" y="2225520"/>
            <a:ext cx="1828800" cy="1828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81080" y="4054320"/>
            <a:ext cx="2286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267080" y="40384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4572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809880" y="40384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981080" y="138744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638680" y="207324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Protective Put strategy has downside protection and upside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1981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143000" y="3809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066680" y="5638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$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5867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2209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28800" y="40384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09880" y="45720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1219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at expi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96080" y="533412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stock at expi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4343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$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828800" y="4511520"/>
            <a:ext cx="2438280" cy="0"/>
            <a:chOff x="1828800" y="4511520"/>
            <a:chExt cx="2438280" cy="0"/>
          </a:xfrm>
        </p:grpSpPr>
        <p:sp>
          <p:nvSpPr>
            <p:cNvPr id="466" name=""/>
            <p:cNvSpPr/>
            <p:nvPr/>
          </p:nvSpPr>
          <p:spPr>
            <a:xfrm>
              <a:off x="1828800" y="4511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981080" y="45115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 flipV="1">
            <a:off x="2057400" y="1615680"/>
            <a:ext cx="4343400" cy="4343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413064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77429"/>
                </a:solidFill>
                <a:latin typeface="Arial"/>
              </a:rPr>
              <a:t>Covered Call Strategy</a:t>
            </a:r>
            <a:endParaRPr b="0" lang="en-US" sz="48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3673440"/>
            <a:ext cx="228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62720" y="481644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ell a call with exercise price of $50 for $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342680" y="3673440"/>
            <a:ext cx="1981080" cy="2057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36720" y="1311120"/>
            <a:ext cx="22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uy the stock at $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057400" y="3673440"/>
            <a:ext cx="1828800" cy="18288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3673440"/>
            <a:ext cx="2286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4343400" y="3825360"/>
            <a:ext cx="0" cy="822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352680" y="46483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886200" y="4114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057400" y="1463400"/>
            <a:ext cx="0" cy="464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44484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vered Call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19320" y="38862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143000" y="5715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$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05120" y="5943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41148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4648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14400" y="1295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at expi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48520" y="40845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stock at expi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143000" y="5273640"/>
            <a:ext cx="914400" cy="398880"/>
            <a:chOff x="1143000" y="5273640"/>
            <a:chExt cx="914400" cy="398880"/>
          </a:xfrm>
        </p:grpSpPr>
        <p:sp>
          <p:nvSpPr>
            <p:cNvPr id="490" name=""/>
            <p:cNvSpPr/>
            <p:nvPr/>
          </p:nvSpPr>
          <p:spPr>
            <a:xfrm>
              <a:off x="1143000" y="52736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$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05120" y="55022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143000" y="3444840"/>
            <a:ext cx="914400" cy="398880"/>
            <a:chOff x="1143000" y="3444840"/>
            <a:chExt cx="914400" cy="398880"/>
          </a:xfrm>
        </p:grpSpPr>
        <p:sp>
          <p:nvSpPr>
            <p:cNvPr id="493" name=""/>
            <p:cNvSpPr/>
            <p:nvPr/>
          </p:nvSpPr>
          <p:spPr>
            <a:xfrm>
              <a:off x="1143000" y="34448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05120" y="36734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28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1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2 Call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3 Put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4 Sell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 Option 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6 Combinations of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7 Valu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8 An Option Pricing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9 Stocks and Bonds as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10 Options and Corporate Decisions: Som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8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11 Investment in Real Projects and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77429"/>
                </a:solidFill>
                <a:latin typeface="Arial"/>
              </a:rPr>
              <a:t>Long Straddle</a:t>
            </a:r>
            <a:endParaRPr b="0" lang="en-US" sz="48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890720" y="1066680"/>
            <a:ext cx="0" cy="473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90720" y="3809880"/>
            <a:ext cx="45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03480" y="390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92720" y="383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07120" y="3838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864320" y="390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82680" y="2286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82680" y="1781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86760" y="359568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ck 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118800" y="21049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on payoff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30640" y="37465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719520" y="3684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33920" y="3684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091120" y="37465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38440" y="20080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738440" y="243684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90720" y="1981080"/>
            <a:ext cx="2286000" cy="228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176720" y="4267080"/>
            <a:ext cx="198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157800" y="41148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uy a put with exercise price of $50 for $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176720" y="1981080"/>
            <a:ext cx="2286000" cy="2286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90720" y="4267080"/>
            <a:ext cx="2286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507000" y="1730520"/>
            <a:ext cx="26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uy a call with exercise price of $50 for $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5640" y="539424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Long Straddle only makes money if the stock price moves  $20 away from $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176720" y="2438280"/>
            <a:ext cx="2286000" cy="2286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90720" y="2438280"/>
            <a:ext cx="2286000" cy="2286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176720" y="3809520"/>
            <a:ext cx="0" cy="1203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719520" y="50133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206360" y="4572000"/>
            <a:ext cx="2970360" cy="368280"/>
            <a:chOff x="1206360" y="4572000"/>
            <a:chExt cx="2970360" cy="368280"/>
          </a:xfrm>
        </p:grpSpPr>
        <p:sp>
          <p:nvSpPr>
            <p:cNvPr id="524" name=""/>
            <p:cNvSpPr/>
            <p:nvPr/>
          </p:nvSpPr>
          <p:spPr>
            <a:xfrm>
              <a:off x="1206360" y="457200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38440" y="47228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890720" y="4724280"/>
              <a:ext cx="2286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5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77429"/>
                </a:solidFill>
                <a:latin typeface="Arial"/>
              </a:rPr>
              <a:t>Short Straddle</a:t>
            </a:r>
            <a:endParaRPr b="0" lang="en-US" sz="48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52480" y="1219320"/>
            <a:ext cx="0" cy="502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752480" y="425448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068120" y="5411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89280" y="43448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354480" y="4359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268880" y="4359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02400" y="43448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68120" y="5945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401160" y="410220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ck 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16200000">
            <a:off x="-19080" y="25491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on payoff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16080" y="41911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581280" y="420516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495680" y="420516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29200" y="41911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00200" y="5562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00200" y="60958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752480" y="3797280"/>
            <a:ext cx="2286000" cy="228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3797280"/>
            <a:ext cx="15242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038480" y="3797280"/>
            <a:ext cx="1676520" cy="16765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52480" y="3797280"/>
            <a:ext cx="2286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3263760"/>
            <a:ext cx="2286000" cy="2286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752480" y="3263760"/>
            <a:ext cx="2286000" cy="2286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038480" y="3263760"/>
            <a:ext cx="0" cy="1203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 rot="10800000">
            <a:off x="3580920" y="454356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282680"/>
            <a:ext cx="68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is Short Straddle only loses money if the stock price moves  $20 away from $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3400560"/>
            <a:ext cx="360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ell a put with exercise pr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$50 for $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495680" y="554976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ell a call with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exercise price of $50 for $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067760" y="3111480"/>
            <a:ext cx="2970720" cy="368280"/>
            <a:chOff x="1067760" y="3111480"/>
            <a:chExt cx="2970720" cy="368280"/>
          </a:xfrm>
        </p:grpSpPr>
        <p:sp>
          <p:nvSpPr>
            <p:cNvPr id="556" name=""/>
            <p:cNvSpPr/>
            <p:nvPr/>
          </p:nvSpPr>
          <p:spPr>
            <a:xfrm>
              <a:off x="1067760" y="311148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00200" y="32623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752480" y="3263760"/>
              <a:ext cx="2286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3000"/>
                            </p:stCondLst>
                            <p:childTnLst>
                              <p:par>
                                <p:cTn id="9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50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40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4500"/>
                            </p:stCondLst>
                            <p:childTnLst>
                              <p:par>
                                <p:cTn id="9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2057400" y="3505320"/>
            <a:ext cx="5105520" cy="398880"/>
            <a:chOff x="2057400" y="3505320"/>
            <a:chExt cx="5105520" cy="398880"/>
          </a:xfrm>
        </p:grpSpPr>
        <p:sp>
          <p:nvSpPr>
            <p:cNvPr id="560" name=""/>
            <p:cNvSpPr/>
            <p:nvPr/>
          </p:nvSpPr>
          <p:spPr>
            <a:xfrm>
              <a:off x="2057400" y="3733920"/>
              <a:ext cx="43434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400800" y="35053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7429"/>
                </a:solidFill>
                <a:latin typeface="Arial"/>
              </a:rPr>
              <a:t>Put-Call Parity: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/(1+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57400" y="1917720"/>
            <a:ext cx="0" cy="433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49528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956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449360" y="3581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233120" y="502920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ck 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285480" y="324792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on payoff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276720" y="48895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905120" y="37321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86000" y="53658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payoffs from holding a portfolio consisting of a call with a strike price of $25 and a bond with a future value of $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57400" y="4952880"/>
            <a:ext cx="12193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276720" y="2666880"/>
            <a:ext cx="2286000" cy="2286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057400" y="37339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276720" y="1447920"/>
            <a:ext cx="228600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562720" y="2514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6884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rtfolio pay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140840" y="1295280"/>
            <a:ext cx="3956400" cy="916920"/>
            <a:chOff x="1140840" y="1295280"/>
            <a:chExt cx="3956400" cy="916920"/>
          </a:xfrm>
        </p:grpSpPr>
        <p:sp>
          <p:nvSpPr>
            <p:cNvPr id="579" name=""/>
            <p:cNvSpPr/>
            <p:nvPr/>
          </p:nvSpPr>
          <p:spPr>
            <a:xfrm>
              <a:off x="1140840" y="1523880"/>
              <a:ext cx="2999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ortfolio value today =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93560" y="175248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(1+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i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11440" y="1295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14520" y="1722600"/>
              <a:ext cx="76212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Put-Call Parity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1765440"/>
            <a:ext cx="0" cy="417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1828800" y="4800600"/>
            <a:ext cx="4800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20960" y="4967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20760" y="342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6080" y="457200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ck 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16200000">
            <a:off x="56880" y="30952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on payoff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676520" y="3579840"/>
            <a:ext cx="152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57400" y="53341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payoffs from holding a portfolio consisting of a share of stock and a put with a $25 str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1828800" y="1294920"/>
            <a:ext cx="3505320" cy="35053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048120" y="4800600"/>
            <a:ext cx="312408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828800" y="3581280"/>
            <a:ext cx="1219320" cy="12193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828800" y="3580920"/>
            <a:ext cx="121932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3048120" y="1295280"/>
            <a:ext cx="228600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365480" y="1295280"/>
            <a:ext cx="328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rtfolio value today =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34120" y="990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rtfolio pay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Put-Call Parity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066680" y="5289480"/>
            <a:ext cx="7620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Since these portfolios have identical payoffs, they must have the same value today: h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Put-Call Parit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892080" y="1295280"/>
            <a:ext cx="7866360" cy="3994200"/>
            <a:chOff x="892080" y="1295280"/>
            <a:chExt cx="7866360" cy="3994200"/>
          </a:xfrm>
        </p:grpSpPr>
        <p:sp>
          <p:nvSpPr>
            <p:cNvPr id="603" name=""/>
            <p:cNvSpPr/>
            <p:nvPr/>
          </p:nvSpPr>
          <p:spPr>
            <a:xfrm>
              <a:off x="1500120" y="1628640"/>
              <a:ext cx="0" cy="364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00120" y="466380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92280" y="4830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92080" y="32922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33240" y="476388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ck price ($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6200000">
              <a:off x="410040" y="2068200"/>
              <a:ext cx="16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tion payoffs ($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719440" y="467640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47840" y="34430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00120" y="3444480"/>
              <a:ext cx="1219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2719440" y="2225520"/>
              <a:ext cx="121932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38960" y="1644480"/>
              <a:ext cx="0" cy="364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38960" y="4679640"/>
              <a:ext cx="24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531120" y="4846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30920" y="33080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72080" y="477972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ock price ($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4448520" y="2084760"/>
              <a:ext cx="16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tion payoffs ($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57920" y="469224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86320" y="34588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38960" y="3460680"/>
              <a:ext cx="1218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757920" y="2241000"/>
              <a:ext cx="121932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532480" y="1387080"/>
              <a:ext cx="2368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ortfolio value today =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+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1480680" y="1295280"/>
              <a:ext cx="2398320" cy="1221120"/>
              <a:chOff x="1480680" y="1295280"/>
              <a:chExt cx="2398320" cy="1221120"/>
            </a:xfrm>
          </p:grpSpPr>
          <p:sp>
            <p:nvSpPr>
              <p:cNvPr id="625" name=""/>
              <p:cNvSpPr/>
              <p:nvPr/>
            </p:nvSpPr>
            <p:spPr>
              <a:xfrm>
                <a:off x="1480680" y="1295280"/>
                <a:ext cx="2398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Portfolio value toda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671200" y="2117520"/>
                <a:ext cx="86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(1+ </a:t>
                </a:r>
                <a:r>
                  <a:rPr b="0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i="1" lang="en-US" sz="2000" spc="-1" strike="noStrike" baseline="30000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936880" y="166032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724120" y="2068200"/>
                <a:ext cx="762120" cy="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833480" y="1888920"/>
                <a:ext cx="782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= </a:t>
                </a:r>
                <a:r>
                  <a:rPr b="0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lang="en-US" sz="20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 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77429"/>
                </a:solidFill>
                <a:latin typeface="Arial"/>
              </a:rPr>
              <a:t>22.7 Valuing Options</a:t>
            </a:r>
            <a:endParaRPr b="0" lang="en-US" sz="48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403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ast section concerned itself with the value of an option at expi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956120" y="152388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section considers the value of an option prior to the expiration d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ch more interesting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American Call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395440" y="5715000"/>
            <a:ext cx="5943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fall within max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90880" y="1249200"/>
            <a:ext cx="0" cy="433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938240" y="428472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30200" y="2913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166320" y="25794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on payoff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757760" y="42210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85960" y="306396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090880" y="4284720"/>
            <a:ext cx="26668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757760" y="1998720"/>
            <a:ext cx="2286000" cy="2286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090880" y="1769760"/>
            <a:ext cx="2514600" cy="2514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43760" y="18464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757760" y="15415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-4410000" y="-8552880"/>
            <a:ext cx="12960720" cy="1283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902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9021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05080" y="5410080"/>
            <a:ext cx="677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60760" y="4513320"/>
            <a:ext cx="581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023840" y="1541520"/>
            <a:ext cx="101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321760" y="4284720"/>
            <a:ext cx="51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290560" y="3446640"/>
            <a:ext cx="228600" cy="304560"/>
          </a:xfrm>
          <a:custGeom>
            <a:avLst/>
            <a:gdLst>
              <a:gd name="textAreaLeft" fmla="*/ 145800 w 228600"/>
              <a:gd name="textAreaRight" fmla="*/ 22860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595840" y="3370320"/>
            <a:ext cx="17780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291280" y="375120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451480" y="3751200"/>
            <a:ext cx="22017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ntrinsic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283360" y="3446640"/>
            <a:ext cx="792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5061960" y="344664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309840" y="2836800"/>
            <a:ext cx="2233800" cy="1066680"/>
            <a:chOff x="3309840" y="2836800"/>
            <a:chExt cx="2233800" cy="1066680"/>
          </a:xfrm>
        </p:grpSpPr>
        <p:sp>
          <p:nvSpPr>
            <p:cNvPr id="658" name=""/>
            <p:cNvSpPr/>
            <p:nvPr/>
          </p:nvSpPr>
          <p:spPr>
            <a:xfrm>
              <a:off x="3309840" y="3065400"/>
              <a:ext cx="17445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80" bIns="5148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31760"/>
                  <a:tab algn="l" pos="2063880"/>
                  <a:tab algn="l" pos="3095640"/>
                  <a:tab algn="l" pos="4127400"/>
                  <a:tab algn="l" pos="5159520"/>
                  <a:tab algn="l" pos="6191280"/>
                  <a:tab algn="l" pos="7223040"/>
                  <a:tab algn="l" pos="8255160"/>
                  <a:tab algn="l" pos="9286920"/>
                  <a:tab algn="l" pos="10318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ket 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97320" y="2836800"/>
              <a:ext cx="12463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41" y="21503"/>
                  </a:moveTo>
                  <a:arcTo wR="10800" hR="10800" stAng="4939991" swAng="5497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41" y="21503"/>
                  </a:moveTo>
                  <a:arcTo wR="10800" hR="10800" stAng="4939991" swAng="5497972"/>
                </a:path>
              </a:pathLst>
            </a:custGeom>
            <a:noFill/>
            <a:ln cap="sq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"/>
          <p:cNvSpPr/>
          <p:nvPr/>
        </p:nvSpPr>
        <p:spPr>
          <a:xfrm flipV="1">
            <a:off x="6434280" y="207468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57760" y="4665600"/>
            <a:ext cx="2819520" cy="990720"/>
          </a:xfrm>
          <a:prstGeom prst="rightArrow">
            <a:avLst>
              <a:gd name="adj1" fmla="val 50000"/>
              <a:gd name="adj2" fmla="val 71148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090880" y="4665600"/>
            <a:ext cx="2666880" cy="990720"/>
          </a:xfrm>
          <a:prstGeom prst="leftArrow">
            <a:avLst>
              <a:gd name="adj1" fmla="val 50000"/>
              <a:gd name="adj2" fmla="val 6729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757760" y="5084640"/>
            <a:ext cx="0" cy="152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062680" y="4925880"/>
            <a:ext cx="1930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In-the-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17600" y="4925880"/>
            <a:ext cx="24638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ut-of-the-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Option Value Determinant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1219320"/>
            <a:ext cx="8381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447480" indent="-447480">
              <a:spcBef>
                <a:spcPts val="700"/>
              </a:spcBef>
              <a:tabLst>
                <a:tab algn="l" pos="0"/>
                <a:tab algn="l" pos="914400"/>
                <a:tab algn="l" pos="1943280"/>
                <a:tab algn="l" pos="2286000"/>
                <a:tab algn="l" pos="3257640"/>
                <a:tab algn="ctr" pos="5029200"/>
                <a:tab algn="ctr" pos="594360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943280"/>
                <a:tab algn="l" pos="2286000"/>
                <a:tab algn="l" pos="3257640"/>
                <a:tab algn="ctr" pos="5029200"/>
                <a:tab algn="ctr" pos="594360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k p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943280"/>
                <a:tab algn="l" pos="2286000"/>
                <a:tab algn="l" pos="3257640"/>
                <a:tab algn="ctr" pos="5029200"/>
                <a:tab algn="ctr" pos="594360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943280"/>
                <a:tab algn="l" pos="2286000"/>
                <a:tab algn="l" pos="3257640"/>
                <a:tab algn="ctr" pos="5029200"/>
                <a:tab algn="ctr" pos="594360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r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943280"/>
                <a:tab algn="l" pos="2286000"/>
                <a:tab algn="l" pos="3257640"/>
                <a:tab algn="ctr" pos="5029200"/>
                <a:tab algn="ctr" pos="594360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atility in the stock p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943280"/>
                <a:tab algn="l" pos="2286000"/>
                <a:tab algn="l" pos="3257640"/>
                <a:tab algn="ctr" pos="5029200"/>
                <a:tab algn="ctr" pos="594360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iration 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943280"/>
                <a:tab algn="l" pos="2286000"/>
                <a:tab algn="l" pos="3257640"/>
                <a:tab algn="ctr" pos="5029200"/>
                <a:tab algn="ctr" pos="594360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of a call op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fall with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901"/>
              </a:spcBef>
              <a:tabLst>
                <a:tab algn="l" pos="0"/>
                <a:tab algn="l" pos="914400"/>
                <a:tab algn="l" pos="1943280"/>
                <a:tab algn="l" pos="2286000"/>
                <a:tab algn="l" pos="3257640"/>
                <a:tab algn="ctr" pos="5029200"/>
                <a:tab algn="ctr" pos="594360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0)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spcBef>
                <a:spcPts val="799"/>
              </a:spcBef>
              <a:tabLst>
                <a:tab algn="l" pos="0"/>
                <a:tab algn="l" pos="914400"/>
                <a:tab algn="l" pos="1943280"/>
                <a:tab algn="l" pos="2286000"/>
                <a:tab algn="l" pos="3257640"/>
                <a:tab algn="ctr" pos="5029200"/>
                <a:tab algn="ctr" pos="594360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cise position will depend on thes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22.8 An Option Pricing Formula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403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start with a binomial option pricing formula to build our intuition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956120" y="152388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 we will graduate to the normal approximation to the binomial for some real-world option valu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Binomial Option Pricing Model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310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 stock is worth $25 today and in one period will either be worth 15% more or 15% les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$25 today and in one yea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either $28.75 or $21.2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isk-free rate is 5%. What is the value of an at-the-money call op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3328920"/>
            <a:ext cx="8305920" cy="32529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319480" y="4208400"/>
            <a:ext cx="1506240" cy="1935000"/>
            <a:chOff x="2319480" y="4208400"/>
            <a:chExt cx="1506240" cy="1935000"/>
          </a:xfrm>
        </p:grpSpPr>
        <p:sp>
          <p:nvSpPr>
            <p:cNvPr id="675" name=""/>
            <p:cNvSpPr/>
            <p:nvPr/>
          </p:nvSpPr>
          <p:spPr>
            <a:xfrm flipV="1">
              <a:off x="2319480" y="4208400"/>
              <a:ext cx="1506240" cy="104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19480" y="5257440"/>
              <a:ext cx="1506240" cy="88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1430280" y="5000760"/>
            <a:ext cx="10666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3767040" y="3429000"/>
            <a:ext cx="3835440" cy="2979360"/>
            <a:chOff x="3767040" y="3429000"/>
            <a:chExt cx="3835440" cy="2979360"/>
          </a:xfrm>
        </p:grpSpPr>
        <p:sp>
          <p:nvSpPr>
            <p:cNvPr id="679" name=""/>
            <p:cNvSpPr/>
            <p:nvPr/>
          </p:nvSpPr>
          <p:spPr>
            <a:xfrm>
              <a:off x="3767040" y="5878440"/>
              <a:ext cx="383544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80" bIns="514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1031760"/>
                  <a:tab algn="l" pos="2063880"/>
                  <a:tab algn="l" pos="3095640"/>
                  <a:tab algn="l" pos="4127400"/>
                  <a:tab algn="l" pos="5159520"/>
                  <a:tab algn="l" pos="6191280"/>
                  <a:tab algn="l" pos="7223040"/>
                  <a:tab algn="l" pos="8255160"/>
                  <a:tab algn="l" pos="9286920"/>
                  <a:tab algn="l" pos="103186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$21.25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$25×(1 –.15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67040" y="3944520"/>
              <a:ext cx="375948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80" bIns="514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1031760"/>
                  <a:tab algn="l" pos="2063880"/>
                  <a:tab algn="l" pos="3095640"/>
                  <a:tab algn="l" pos="4127400"/>
                  <a:tab algn="l" pos="5159520"/>
                  <a:tab algn="l" pos="6191280"/>
                  <a:tab algn="l" pos="7223040"/>
                  <a:tab algn="l" pos="8255160"/>
                  <a:tab algn="l" pos="9286920"/>
                  <a:tab algn="l" pos="103186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$28.75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$2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(1.15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86280" y="3429000"/>
              <a:ext cx="70308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80" bIns="514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031760"/>
                  <a:tab algn="l" pos="2063880"/>
                  <a:tab algn="l" pos="3095640"/>
                  <a:tab algn="l" pos="4127400"/>
                  <a:tab algn="l" pos="5159520"/>
                  <a:tab algn="l" pos="6191280"/>
                  <a:tab algn="l" pos="7223040"/>
                  <a:tab algn="l" pos="8255160"/>
                  <a:tab algn="l" pos="9286920"/>
                  <a:tab algn="l" pos="103186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1676520" y="3429000"/>
            <a:ext cx="59184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" y="4038480"/>
            <a:ext cx="8229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22.1 Option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tion gives the holder the right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t not the oblig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o buy or sell a given quantity of an asset on (or before) a given date, at prices agreed upon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ing the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 of buying or selling the underlying ass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ke Price or Exerci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fixed price in the option contract at which the holder can buy or sell the underlying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iry (Expiration D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urity date of the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Binomial Option Pricing Model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231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ll option on this stock with exercise pr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$25 will have the following payoff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replicate the payoffs of the call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a levered position in the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048120"/>
            <a:ext cx="8305920" cy="32526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489040" y="3927600"/>
            <a:ext cx="1506600" cy="104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89040" y="4976640"/>
            <a:ext cx="1506600" cy="8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600200" y="4719600"/>
            <a:ext cx="10666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36960" y="5597640"/>
            <a:ext cx="13543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36960" y="3664080"/>
            <a:ext cx="12193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8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56200" y="3147840"/>
            <a:ext cx="70308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846440" y="3147840"/>
            <a:ext cx="59184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37400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089920" y="3147840"/>
            <a:ext cx="75420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866000" y="3687840"/>
            <a:ext cx="12016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3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9600" y="5621400"/>
            <a:ext cx="10162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Binomial Option Pricing Model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002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rrow the present value of $21.25 today and bu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 sha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t payoff for this levered equity portfolio in one period is either $7.50 or $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levered equity portfolio has twice the option’s payoff, so the portfolio is worth twice the call option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3048120"/>
            <a:ext cx="8305560" cy="32526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2641680" y="3927600"/>
            <a:ext cx="1506600" cy="104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641680" y="4976640"/>
            <a:ext cx="1506600" cy="8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752480" y="4719600"/>
            <a:ext cx="10670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089240" y="5597640"/>
            <a:ext cx="13543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089240" y="3664080"/>
            <a:ext cx="12193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8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308480" y="3147840"/>
            <a:ext cx="70308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998720" y="3147840"/>
            <a:ext cx="59220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38080" y="37400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232240" y="3147840"/>
            <a:ext cx="9306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079960" y="3652920"/>
            <a:ext cx="1549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451560" y="3147840"/>
            <a:ext cx="18543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727680" y="3652920"/>
            <a:ext cx="10162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7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727680" y="5603760"/>
            <a:ext cx="10162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165560" y="31543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46640" y="368136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146640" y="56167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8242200" y="3147840"/>
            <a:ext cx="75420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018640" y="3687840"/>
            <a:ext cx="12016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3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112240" y="5621400"/>
            <a:ext cx="101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079960" y="5587920"/>
            <a:ext cx="14223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Binomial Option Pricing Model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50292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 today of the levered equity portfolio is today’s value of one share less the present value of a $21.25 deb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324480" y="1219320"/>
                <a:ext cx="21369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685800" y="2743200"/>
            <a:ext cx="8305920" cy="32529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2565360" y="3622320"/>
            <a:ext cx="1506600" cy="1049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565360" y="4672080"/>
            <a:ext cx="1506600" cy="885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4414680"/>
            <a:ext cx="10666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013280" y="5292720"/>
            <a:ext cx="13539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013280" y="3359160"/>
            <a:ext cx="12189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8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232160" y="2843280"/>
            <a:ext cx="70344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922400" y="2843280"/>
            <a:ext cx="59220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3435480"/>
            <a:ext cx="80769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56280" y="2843280"/>
            <a:ext cx="9302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003640" y="3348000"/>
            <a:ext cx="1549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375240" y="2843280"/>
            <a:ext cx="18543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651720" y="3348000"/>
            <a:ext cx="101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7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651720" y="5299200"/>
            <a:ext cx="101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089240" y="2849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070680" y="337644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70680" y="5311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166240" y="2843280"/>
            <a:ext cx="75384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942320" y="3382920"/>
            <a:ext cx="12016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3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035920" y="5316480"/>
            <a:ext cx="101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003640" y="5283360"/>
            <a:ext cx="14227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Binomial Option Pricing Model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457488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 can value the call option today as half of the value of the levered equity portfol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5726160" y="1219320"/>
                <a:ext cx="31050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8" name=""/>
          <p:cNvSpPr/>
          <p:nvPr/>
        </p:nvSpPr>
        <p:spPr>
          <a:xfrm>
            <a:off x="762120" y="2590920"/>
            <a:ext cx="8305560" cy="32526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2641680" y="3470400"/>
            <a:ext cx="1506600" cy="104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41680" y="4519440"/>
            <a:ext cx="1506600" cy="8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752480" y="4262400"/>
            <a:ext cx="10670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089240" y="5140440"/>
            <a:ext cx="13543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089240" y="3206880"/>
            <a:ext cx="12193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8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308480" y="2690640"/>
            <a:ext cx="70308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998720" y="2690640"/>
            <a:ext cx="59220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38080" y="328284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32240" y="2690640"/>
            <a:ext cx="9306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079960" y="3195720"/>
            <a:ext cx="1549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451560" y="2690640"/>
            <a:ext cx="18543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727680" y="3195720"/>
            <a:ext cx="10162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7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727680" y="5146560"/>
            <a:ext cx="10162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165560" y="2697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46640" y="322416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46640" y="51595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42200" y="2690640"/>
            <a:ext cx="75420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018640" y="3230640"/>
            <a:ext cx="12016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3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8112240" y="5164200"/>
            <a:ext cx="101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079960" y="5130720"/>
            <a:ext cx="14223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interest rate is 5%, the call is wor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Binomial Option Pricing Model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219320" y="1676520"/>
                <a:ext cx="646092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d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762120" y="2843280"/>
            <a:ext cx="8305560" cy="32526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641680" y="3722400"/>
            <a:ext cx="1506600" cy="1049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641680" y="4772160"/>
            <a:ext cx="1506600" cy="885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514760"/>
            <a:ext cx="10670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089240" y="5392800"/>
            <a:ext cx="13543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089240" y="3459240"/>
            <a:ext cx="12193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8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308480" y="2943360"/>
            <a:ext cx="70308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98720" y="2943360"/>
            <a:ext cx="59220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38080" y="3535200"/>
            <a:ext cx="8077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232240" y="2943360"/>
            <a:ext cx="9306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079960" y="3448080"/>
            <a:ext cx="1549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451560" y="2943360"/>
            <a:ext cx="18543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727680" y="3448080"/>
            <a:ext cx="10162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7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727680" y="5398920"/>
            <a:ext cx="10162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165560" y="2949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146640" y="34765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146640" y="5411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242200" y="2943360"/>
            <a:ext cx="75420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8018640" y="3483000"/>
            <a:ext cx="12016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3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112240" y="5416560"/>
            <a:ext cx="101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079960" y="5383080"/>
            <a:ext cx="14223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85800" y="2943360"/>
            <a:ext cx="1066680" cy="2083680"/>
            <a:chOff x="685800" y="2943360"/>
            <a:chExt cx="1066680" cy="2083680"/>
          </a:xfrm>
        </p:grpSpPr>
        <p:sp>
          <p:nvSpPr>
            <p:cNvPr id="794" name=""/>
            <p:cNvSpPr/>
            <p:nvPr/>
          </p:nvSpPr>
          <p:spPr>
            <a:xfrm>
              <a:off x="685800" y="4497120"/>
              <a:ext cx="106668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80" bIns="514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1031760"/>
                  <a:tab algn="l" pos="2063880"/>
                  <a:tab algn="l" pos="3095640"/>
                  <a:tab algn="l" pos="4127400"/>
                  <a:tab algn="l" pos="5159520"/>
                  <a:tab algn="l" pos="6191280"/>
                  <a:tab algn="l" pos="7223040"/>
                  <a:tab algn="l" pos="8255160"/>
                  <a:tab algn="l" pos="9286920"/>
                  <a:tab algn="l" pos="103186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$2.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31680" y="2943360"/>
              <a:ext cx="66852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80" bIns="514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031760"/>
                  <a:tab algn="l" pos="2063880"/>
                  <a:tab algn="l" pos="3095640"/>
                  <a:tab algn="l" pos="4127400"/>
                  <a:tab algn="l" pos="5159520"/>
                  <a:tab algn="l" pos="6191280"/>
                  <a:tab algn="l" pos="7223040"/>
                  <a:tab algn="l" pos="8255160"/>
                  <a:tab algn="l" pos="9286920"/>
                  <a:tab algn="l" pos="1031868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Binomial Option Pricing Model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00"/>
                </a:solidFill>
                <a:uFillTx/>
                <a:latin typeface="Arial"/>
              </a:rPr>
              <a:t>the replicating portfolio intui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62120" y="3352680"/>
            <a:ext cx="80769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erivative securities can be valued by valuing portfolios of primitive securities when those portfolios have the same payoffs as the derivative secu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62120" y="1143000"/>
            <a:ext cx="7621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important lesson (so far) from the binomial option pricing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Delta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practice of the construction of a riskless hedge is called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elta hedg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lta of a call option is posi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from the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38080" y="54450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717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1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lta of a put option is negative.</a:t>
            </a:r>
            <a:r>
              <a:rPr b="0" lang="en-US" sz="2800" spc="-1" strike="noStrike">
                <a:solidFill>
                  <a:srgbClr val="644a1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914400" y="4343400"/>
            <a:ext cx="7848720" cy="1175760"/>
            <a:chOff x="914400" y="4343400"/>
            <a:chExt cx="7848720" cy="1175760"/>
          </a:xfrm>
        </p:grpSpPr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4164120" y="4387680"/>
                  <a:ext cx="459900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$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num>
                        <m:den>
                          <m:r>
                            <m:t xml:space="preserve">$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−</m:t>
                          </m:r>
                          <m:r>
                            <m:t xml:space="preserve">$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$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num>
                        <m:den>
                          <m:r>
                            <m:t xml:space="preserve">$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5" name=""/>
            <p:cNvSpPr/>
            <p:nvPr/>
          </p:nvSpPr>
          <p:spPr>
            <a:xfrm>
              <a:off x="914400" y="4572000"/>
              <a:ext cx="68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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76520" y="4343400"/>
              <a:ext cx="239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wing of c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676520" y="480060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wing of stoc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752480" y="4876920"/>
              <a:ext cx="2210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Delta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ng the Amount of Borrow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a call = Stock pri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l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borr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.38  = $2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× ½ – Amount borr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borrowed  = $10.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371600" y="2666880"/>
                <a:ext cx="66261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d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The Risk-Neutral Approach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480" y="4419720"/>
            <a:ext cx="8237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value the optio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), as the value of the replicating portfolio. An equivalent method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isk-neutral 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2800440" y="1581120"/>
            <a:ext cx="2514600" cy="11239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81360" y="2705040"/>
            <a:ext cx="2571840" cy="12193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95280" y="2438280"/>
            <a:ext cx="148608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0)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34120" y="1295280"/>
            <a:ext cx="163836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353200" y="3676680"/>
            <a:ext cx="163800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619440" y="17146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48080" y="3257640"/>
            <a:ext cx="8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5410080" y="5638680"/>
                <a:ext cx="34243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The Risk-Neutral Approach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761760" y="3733920"/>
            <a:ext cx="47242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) is the value of the underlying asset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3029040" y="1504440"/>
            <a:ext cx="2514600" cy="11242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009960" y="2629080"/>
            <a:ext cx="2571840" cy="12189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523880" y="2362320"/>
            <a:ext cx="148608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0)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562720" y="1219320"/>
            <a:ext cx="163836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581800" y="3600360"/>
            <a:ext cx="163800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47242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re the values of the asset in the next period following an up move and a down move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848040" y="163836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676680" y="3181320"/>
            <a:ext cx="8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5800" y="56386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re the values of the option in the next period following an up move and a down move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295960" y="1981080"/>
            <a:ext cx="285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-neutral probability of an “up” m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Options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versus America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options can be exercised only at expi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options can be exercised at any time up to expi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ing the option would result in a positive payo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-the-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ing the option would result in a zero payoff (i.e., exercise price equal to spot pri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-of-the-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ing the option would result in a negative pay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The Risk-Neutral Approach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to fin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 note that it is already impounded into an observable security price: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1447920" y="990720"/>
            <a:ext cx="4038480" cy="2031480"/>
            <a:chOff x="1447920" y="990720"/>
            <a:chExt cx="4038480" cy="2031480"/>
          </a:xfrm>
        </p:grpSpPr>
        <p:sp>
          <p:nvSpPr>
            <p:cNvPr id="837" name=""/>
            <p:cNvSpPr/>
            <p:nvPr/>
          </p:nvSpPr>
          <p:spPr>
            <a:xfrm flipV="1">
              <a:off x="2554200" y="1194120"/>
              <a:ext cx="1690920" cy="799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41600" y="1994040"/>
              <a:ext cx="1728720" cy="8668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47920" y="1803600"/>
              <a:ext cx="1095120" cy="33732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0)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59160" y="990720"/>
              <a:ext cx="1227240" cy="33732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70320" y="2684880"/>
              <a:ext cx="1216080" cy="33732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06800" y="1290960"/>
              <a:ext cx="3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90880" y="238644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- 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5423040" y="1530360"/>
                <a:ext cx="34239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14600" y="4572000"/>
                <a:ext cx="3379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6" name=""/>
          <p:cNvSpPr/>
          <p:nvPr/>
        </p:nvSpPr>
        <p:spPr>
          <a:xfrm>
            <a:off x="1447920" y="5635800"/>
            <a:ext cx="38480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nor bit of algebra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257800" y="5380200"/>
                <a:ext cx="3048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93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Example of Risk-Neutral Valuation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610000" y="3892680"/>
            <a:ext cx="2000160" cy="876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590920" y="4768920"/>
            <a:ext cx="1962000" cy="876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572000" y="5511960"/>
            <a:ext cx="184788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$21.25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429000" y="377820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257640" y="5321160"/>
            <a:ext cx="8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 stock is worth $25 today and in one period will either be worth 15% more or 15% less. The risk-free rate is 5%. What is the value of an at-the-money call o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nomial tree would look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219320" y="4521240"/>
            <a:ext cx="137160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$25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610160" y="3664080"/>
            <a:ext cx="184788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$28.75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4990680" y="2819520"/>
            <a:ext cx="2976480" cy="1300680"/>
            <a:chOff x="4990680" y="2819520"/>
            <a:chExt cx="2976480" cy="1300680"/>
          </a:xfrm>
        </p:grpSpPr>
        <mc:AlternateContent>
          <mc:Choice xmlns:a14="http://schemas.microsoft.com/office/drawing/2010/main" Requires="a14">
            <p:sp>
              <p:nvSpPr>
                <p:cNvPr id="858" name=""/>
                <p:cNvSpPr txBox="1"/>
                <p:nvPr/>
              </p:nvSpPr>
              <p:spPr>
                <a:xfrm>
                  <a:off x="5554440" y="2819520"/>
                  <a:ext cx="241272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$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=</m:t>
                      </m:r>
                      <m:r>
                        <m:t xml:space="preserve">$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9" name=""/>
            <p:cNvSpPr/>
            <p:nvPr/>
          </p:nvSpPr>
          <p:spPr>
            <a:xfrm flipH="1">
              <a:off x="4990320" y="3016080"/>
              <a:ext cx="1027800" cy="110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4971960" y="4705200"/>
            <a:ext cx="3081600" cy="1301760"/>
            <a:chOff x="4971960" y="4705200"/>
            <a:chExt cx="3081600" cy="1301760"/>
          </a:xfrm>
        </p:grpSpPr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5430960" y="4705200"/>
                  <a:ext cx="26226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$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=</m:t>
                      </m:r>
                      <m:r>
                        <m:t xml:space="preserve">$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2" name=""/>
            <p:cNvSpPr/>
            <p:nvPr/>
          </p:nvSpPr>
          <p:spPr>
            <a:xfrm flipH="1">
              <a:off x="4971960" y="4902120"/>
              <a:ext cx="1028160" cy="110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35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Example of Risk-Neutral Valuation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762280" y="4118040"/>
            <a:ext cx="2000160" cy="876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743200" y="4994280"/>
            <a:ext cx="1962000" cy="876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724280" y="5737320"/>
            <a:ext cx="184788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$21.25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371760" y="400356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409920" y="55468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/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step would be to compute the risk neutral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371600" y="4746600"/>
            <a:ext cx="137160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$25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762440" y="3889440"/>
            <a:ext cx="184788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$28.75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981080" y="1981080"/>
                <a:ext cx="2700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981080" y="2895480"/>
                <a:ext cx="41706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−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$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26560" y="228600"/>
            <a:ext cx="831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Example of Risk-Neutral Valuation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2266920" y="3416400"/>
            <a:ext cx="2000160" cy="876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247840" y="4292640"/>
            <a:ext cx="1962360" cy="876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29280" y="5035680"/>
            <a:ext cx="184752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$21.25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cc3300"/>
                </a:solidFill>
                <a:latin typeface="Times New Roman"/>
              </a:rPr>
              <a:t>$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009960" y="33019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914560" y="48448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at, find the value of the call in the up state and d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76240" y="4044960"/>
            <a:ext cx="137160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$25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267080" y="3187800"/>
            <a:ext cx="2038320" cy="4748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$28.75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cc3300"/>
                </a:solidFill>
                <a:latin typeface="Times New Roman"/>
              </a:rPr>
              <a:t>$3.7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644800" y="2362320"/>
            <a:ext cx="2965680" cy="1300680"/>
            <a:chOff x="5644800" y="2362320"/>
            <a:chExt cx="2965680" cy="1300680"/>
          </a:xfrm>
        </p:grpSpPr>
        <mc:AlternateContent>
          <mc:Choice xmlns:a14="http://schemas.microsoft.com/office/drawing/2010/main" Requires="a14">
            <p:sp>
              <p:nvSpPr>
                <p:cNvPr id="884" name=""/>
                <p:cNvSpPr txBox="1"/>
                <p:nvPr/>
              </p:nvSpPr>
              <p:spPr>
                <a:xfrm>
                  <a:off x="6219720" y="2362320"/>
                  <a:ext cx="239076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$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−</m:t>
                      </m:r>
                      <m:r>
                        <m:t xml:space="preserve">$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5" name=""/>
            <p:cNvSpPr/>
            <p:nvPr/>
          </p:nvSpPr>
          <p:spPr>
            <a:xfrm flipH="1">
              <a:off x="5644440" y="2558880"/>
              <a:ext cx="1027800" cy="110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410080" y="4197240"/>
            <a:ext cx="3276720" cy="1333080"/>
            <a:chOff x="5410080" y="4197240"/>
            <a:chExt cx="3276720" cy="1333080"/>
          </a:xfrm>
        </p:grpSpPr>
        <mc:AlternateContent>
          <mc:Choice xmlns:a14="http://schemas.microsoft.com/office/drawing/2010/main" Requires="a14">
            <p:sp>
              <p:nvSpPr>
                <p:cNvPr id="887" name=""/>
                <p:cNvSpPr txBox="1"/>
                <p:nvPr/>
              </p:nvSpPr>
              <p:spPr>
                <a:xfrm>
                  <a:off x="5410080" y="4197240"/>
                  <a:ext cx="327672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ax</m:t>
                      </m:r>
                      <m:r>
                        <m:t xml:space="preserve">[</m:t>
                      </m:r>
                      <m:r>
                        <m:t xml:space="preserve">$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−</m:t>
                      </m:r>
                      <m:r>
                        <m:t xml:space="preserve">$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8" name=""/>
            <p:cNvSpPr/>
            <p:nvPr/>
          </p:nvSpPr>
          <p:spPr>
            <a:xfrm flipH="1">
              <a:off x="5552280" y="4426200"/>
              <a:ext cx="932760" cy="110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10" y="1761"/>
                  </a:moveTo>
                  <a:arcTo wR="10800" hR="10800" stAng="-3409338" swAng="34093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10" y="1761"/>
                  </a:moveTo>
                  <a:arcTo wR="10800" hR="10800" stAng="-3409338" swAng="340933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31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Example of Risk-Neutral Valuation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, find the value of the call at time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3562200" y="3813120"/>
            <a:ext cx="5429160" cy="2322720"/>
            <a:chOff x="3562200" y="3813120"/>
            <a:chExt cx="5429160" cy="2322720"/>
          </a:xfrm>
        </p:grpSpPr>
        <p:sp>
          <p:nvSpPr>
            <p:cNvPr id="892" name=""/>
            <p:cNvSpPr/>
            <p:nvPr/>
          </p:nvSpPr>
          <p:spPr>
            <a:xfrm flipV="1">
              <a:off x="4952880" y="4041360"/>
              <a:ext cx="2000160" cy="876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933800" y="4918320"/>
              <a:ext cx="1962000" cy="876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14880" y="5661000"/>
              <a:ext cx="1847880" cy="47484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$21.25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 $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695920" y="39276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/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00520" y="5470560"/>
              <a:ext cx="8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562200" y="4664160"/>
              <a:ext cx="1371600" cy="47484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$25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0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53040" y="3813120"/>
              <a:ext cx="2038320" cy="47484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$28.75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$3.7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276200" y="1603440"/>
                <a:ext cx="3445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276200" y="2689200"/>
                <a:ext cx="31816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$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$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01" name=""/>
          <p:cNvGrpSpPr/>
          <p:nvPr/>
        </p:nvGrpSpPr>
        <p:grpSpPr>
          <a:xfrm>
            <a:off x="1276200" y="3889440"/>
            <a:ext cx="3200040" cy="1217880"/>
            <a:chOff x="1276200" y="3889440"/>
            <a:chExt cx="3200040" cy="1217880"/>
          </a:xfrm>
        </p:grpSpPr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1276200" y="3889440"/>
                  <a:ext cx="2347920" cy="72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$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5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$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8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3" name=""/>
            <p:cNvSpPr/>
            <p:nvPr/>
          </p:nvSpPr>
          <p:spPr>
            <a:xfrm>
              <a:off x="3105360" y="4194000"/>
              <a:ext cx="13708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3333600" y="4664160"/>
            <a:ext cx="1600200" cy="47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$25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500" spc="-1" strike="noStrike">
                <a:solidFill>
                  <a:srgbClr val="cc3300"/>
                </a:solidFill>
                <a:latin typeface="Times New Roman"/>
              </a:rPr>
              <a:t>$2.3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risk-neutral result is consistent with valuing the call using a replicating portfol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title"/>
          </p:nvPr>
        </p:nvSpPr>
        <p:spPr>
          <a:xfrm>
            <a:off x="7621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77429"/>
                </a:solidFill>
                <a:latin typeface="Arial"/>
              </a:rPr>
              <a:t>Risk-Neutral Valuation and the Replicating Portfolio</a:t>
            </a:r>
            <a:endParaRPr b="0" lang="en-US" sz="3900" spc="-1" strike="noStrike">
              <a:solidFill>
                <a:srgbClr val="d77429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1295280" y="4114800"/>
            <a:ext cx="6934320" cy="1447920"/>
            <a:chOff x="1295280" y="4114800"/>
            <a:chExt cx="6934320" cy="1447920"/>
          </a:xfrm>
        </p:grpSpPr>
        <p:sp>
          <p:nvSpPr>
            <p:cNvPr id="908" name=""/>
            <p:cNvSpPr/>
            <p:nvPr/>
          </p:nvSpPr>
          <p:spPr>
            <a:xfrm>
              <a:off x="1295280" y="4114800"/>
              <a:ext cx="6934320" cy="144792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9" name=""/>
                <p:cNvSpPr txBox="1"/>
                <p:nvPr/>
              </p:nvSpPr>
              <p:spPr>
                <a:xfrm>
                  <a:off x="1493640" y="4419720"/>
                  <a:ext cx="6461280" cy="99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$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$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$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8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371600" y="2743200"/>
                <a:ext cx="65595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$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$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The Black-Scholes Model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2209680" y="1066680"/>
                <a:ext cx="4581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"/>
          <p:cNvSpPr/>
          <p:nvPr/>
        </p:nvSpPr>
        <p:spPr>
          <a:xfrm>
            <a:off x="1049400" y="1600200"/>
            <a:ext cx="771372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 the value of a European option at tim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101600" y="2514600"/>
            <a:ext cx="804240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the risk-free interest ra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297080" y="3024360"/>
                <a:ext cx="345096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1297080" y="4430880"/>
                <a:ext cx="20192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17" name=""/>
          <p:cNvSpPr/>
          <p:nvPr/>
        </p:nvSpPr>
        <p:spPr>
          <a:xfrm>
            <a:off x="5259240" y="30510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Probability that a standardized, normally distributed, random variable will be less than or equal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90720" y="5108400"/>
            <a:ext cx="77738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ack-Scholes Model allows us to value options in the real world just as we have done in the 2-stat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The Black-Scholes Model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3104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40400" indent="0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value of a six-month call option on Microsoft with an exercise price of $1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value of a share of Microsoft is $1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est rate available in the U.S.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tion maturity is 6 months (half of a yea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latility of the underlying as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30% per ann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Before we start, note that the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intrinsic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value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of the option is $10—our answer must be at least that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The Black-Scholes Model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2314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ur hand at using the model. If you have a calculator handy, follow a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76440" y="5105520"/>
            <a:ext cx="8543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1676520" y="3048120"/>
                <a:ext cx="36241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5" name=""/>
          <p:cNvSpPr/>
          <p:nvPr/>
        </p:nvSpPr>
        <p:spPr>
          <a:xfrm>
            <a:off x="609480" y="2514600"/>
            <a:ext cx="38484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rst calculat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1447920" y="5715000"/>
                <a:ext cx="5930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815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6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1593720" y="3962520"/>
                <a:ext cx="6416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81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The Black-Scholes Model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59120" y="2690640"/>
            <a:ext cx="51818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N(0.52815) = 0.701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N(0.31602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0.6240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1228680" y="2590920"/>
                <a:ext cx="2109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8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1339920" y="3211560"/>
                <a:ext cx="21225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6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86000" y="1981080"/>
                <a:ext cx="45813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717560" y="3976560"/>
                <a:ext cx="609912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1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01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22.2 Call Option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 options gives the holder the right, but not the obligation, to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bu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given quantity of some asset on or before some time in the future, at prices agreed upon to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exercising a call option, you “call in” the ass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22.9 Stocks and Bonds as Options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vered equity is a call op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nderlying asset comprises the assets of the fi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ike price is the payoff of the bo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t the maturity of their debt, the assets of the firm are greater in value than the debt, the shareholders have an in-the-money call. They will pay the bondholders and “call in” the assets of the fir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t the maturity of the debt the shareholders have an out-of-the-money call, they will not pay the bondholders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i.e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he shareholders will declare bankruptcy) and let the call expir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10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Stocks and Bonds as Options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ed equity is a put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lying asset comprises the assets of the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ike price is the payoff of the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t the maturity of their debt, the assets of the firm are less in value than the debt, shareholders have an in-the-money 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ill put the firm to the bondhol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t the maturity of the debt the shareholders have an out-of-the-money put, they will not exercise the optio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.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 declare bankruptcy) and let the put exp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10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10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8" dur="1000"/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1000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1000"/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Stocks and Bonds as Options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218960" y="914400"/>
            <a:ext cx="7589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all comes down to put-call par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066680" y="2924280"/>
            <a:ext cx="7791480" cy="1194120"/>
            <a:chOff x="1066680" y="2924280"/>
            <a:chExt cx="7791480" cy="1194120"/>
          </a:xfrm>
        </p:grpSpPr>
        <p:sp>
          <p:nvSpPr>
            <p:cNvPr id="941" name=""/>
            <p:cNvSpPr/>
            <p:nvPr/>
          </p:nvSpPr>
          <p:spPr>
            <a:xfrm>
              <a:off x="1066680" y="2927160"/>
              <a:ext cx="1638360" cy="11912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993300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 of a call on the fi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05160" y="2927160"/>
              <a:ext cx="1638360" cy="119124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50000">
                  <a:srgbClr val="005cbf"/>
                </a:gs>
                <a:gs pos="100000">
                  <a:srgbClr val="03d4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 of a put on the fi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19800" y="2924280"/>
              <a:ext cx="1638360" cy="119124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50000">
                  <a:srgbClr val="96ab94"/>
                </a:gs>
                <a:gs pos="100000">
                  <a:srgbClr val="8488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 of a risk-free b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181320" y="3082680"/>
              <a:ext cx="1581120" cy="94716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5000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Value of the fir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609640" y="333360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10160" y="3352680"/>
              <a:ext cx="72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572160" y="333360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1047600" y="49276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holder’s position in terms of call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105520" y="4984920"/>
            <a:ext cx="234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holder’s position in terms of put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rot="16112400">
            <a:off x="1571400" y="3833640"/>
            <a:ext cx="603360" cy="1629000"/>
          </a:xfrm>
          <a:custGeom>
            <a:avLst/>
            <a:gdLst>
              <a:gd name="textAreaLeft" fmla="*/ 385560 w 603360"/>
              <a:gd name="textAreaRight" fmla="*/ 603360 w 603360"/>
              <a:gd name="textAreaTop" fmla="*/ 42480 h 1629000"/>
              <a:gd name="textAreaBottom" fmla="*/ 1586520 h 16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16112400">
            <a:off x="5713920" y="1753200"/>
            <a:ext cx="603360" cy="5612040"/>
          </a:xfrm>
          <a:custGeom>
            <a:avLst/>
            <a:gdLst>
              <a:gd name="textAreaLeft" fmla="*/ 385560 w 603360"/>
              <a:gd name="textAreaRight" fmla="*/ 603360 w 603360"/>
              <a:gd name="textAreaTop" fmla="*/ 146160 h 5612040"/>
              <a:gd name="textAreaBottom" fmla="*/ 5465880 h 561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2622960" y="1593720"/>
            <a:ext cx="4287600" cy="1168200"/>
            <a:chOff x="2622960" y="1593720"/>
            <a:chExt cx="4287600" cy="1168200"/>
          </a:xfrm>
        </p:grpSpPr>
        <p:sp>
          <p:nvSpPr>
            <p:cNvPr id="953" name=""/>
            <p:cNvSpPr/>
            <p:nvPr/>
          </p:nvSpPr>
          <p:spPr>
            <a:xfrm>
              <a:off x="2622960" y="1822320"/>
              <a:ext cx="26406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=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98640" y="2119320"/>
              <a:ext cx="141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1+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869080" y="15937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562360" y="2203200"/>
              <a:ext cx="129564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Mergers and Diversification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versification is a frequently mentioned reason for merg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versification reduces risk and, therefore, volat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reasing volatility decreases the value of an op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diversification is the only benefit to a merg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equity can be viewed as a call option, should the merger increase or decrease the value of the equi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risky debt can be viewed as risk-free debt minus a put option, what happens to the value of the risky deb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all, what has happened with the merger and is it a good decision in view of the goal of stockholder wealth maximiz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10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10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1000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/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1000"/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1000"/>
                                        <p:tgtEl>
                                          <p:spTgt spid="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1000"/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9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following two merger candi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rger is for diversification purposes only with no synergies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-free rate is 4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704880" y="2590920"/>
          <a:ext cx="8286840" cy="3456000"/>
        </p:xfrm>
        <a:graphic>
          <a:graphicData uri="http://schemas.openxmlformats.org/drawingml/2006/table">
            <a:tbl>
              <a:tblPr/>
              <a:tblGrid>
                <a:gridCol w="3962520"/>
                <a:gridCol w="2209680"/>
                <a:gridCol w="2114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value of ass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e value of zero coupon deb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t matur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 return standard dev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8" dur="1000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5" dur="1000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Black and Scholes OPM (or an options calculator) to compute the value of the equ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the debt = value of assets – value of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835200" y="3827520"/>
          <a:ext cx="7927920" cy="2316240"/>
        </p:xfrm>
        <a:graphic>
          <a:graphicData uri="http://schemas.openxmlformats.org/drawingml/2006/table">
            <a:tbl>
              <a:tblPr/>
              <a:tblGrid>
                <a:gridCol w="4009680"/>
                <a:gridCol w="1967040"/>
                <a:gridCol w="1951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Value of Equ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Value of Deb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53280" y="2514600"/>
            <a:ext cx="5796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t return standard deviation for the combined firm is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value assets (combined) = 40 + 15 =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value debt (combined) = 18 + 7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990720" y="2666880"/>
          <a:ext cx="7772400" cy="19814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Fi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value of equ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value of deb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838080" y="487692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MV of equity of separate firms = 25.72 + 9.88 = 35.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lth transfer from stockholders to bondholders = 35.60 – 34.18 = 1.42 (exact increase in MV of deb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M&amp;A Conclusion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rs for diversification only transfer wealth from the stockholders to the bondhol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ndard deviation of returns on the assets is reduced, thereby reducing the option value of the equ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anagement’s goal is to maximiz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ckhol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alth, then mergers for reasons of diversification should not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1000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Options and Capital Budgeting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kholders may prefer low NPV projects to high NPV projects if the firm is highly leveraged and the low NPV project increases volat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company with the following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 assets = 40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Value debt = 25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t maturity =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t return standard deviation =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-free rate = 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1000"/>
                                        <p:tgtEl>
                                          <p:spTgt spid="9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9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9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1000"/>
                                        <p:tgtEl>
                                          <p:spTgt spid="9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9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9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Example: Low NPV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market value of equity = $22.706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market value of debt = $17.294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1009800" y="2514600"/>
          <a:ext cx="7753320" cy="3531960"/>
        </p:xfrm>
        <a:graphic>
          <a:graphicData uri="http://schemas.openxmlformats.org/drawingml/2006/table">
            <a:tbl>
              <a:tblPr/>
              <a:tblGrid>
                <a:gridCol w="4134960"/>
                <a:gridCol w="1782360"/>
                <a:gridCol w="183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 of ass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 return standard dev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 of equ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.8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.3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 of deb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.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.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1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Call Option Pricing at Expiry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3055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xpiry, an American call option is worth the same as a European option with the same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all is in-the-money, it is wor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all is out-of-the-money, it is worthl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ax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value of the stock at expiry (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exercise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value of the call option at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Example: Low NPV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roject should management 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though project B has a lower NPV, it is better for stockhol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m has a relatively high amount of lever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project A, the bondholders share in the NPV because it reduces the risk of bankrupt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project B, the stockholders actually appropriate additional wealth from the bondholders for a larger gain i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5" dur="10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1000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1000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1000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1000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Example: Negative NPV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seen that stockholders might prefer a low NPV to a high one, but would they ever prefer a negative NP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certain circumstances, they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irm is highly leveraged, stockholders have nothing to lose if a project fails, and everything to gain if it succ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tly, they may prefer a very risky project with a negative NPV but high potential re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2" dur="indefinite" restart="never" nodeType="tmRoot">
          <p:childTnLst>
            <p:seq>
              <p:cTn id="1893" dur="indefinite" nodeType="mainSeq">
                <p:childTnLst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1000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5" dur="1000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2" dur="1000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1000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Example: Negative NPV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previous fi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one additional project they are considering with the following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NPV = -$2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 of assets = $38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 return standard deviation =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the value of the debt and 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 equity = $25.45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V debt = $12.547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1000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1000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1000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1000"/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1000"/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1000"/>
                                        <p:tgtEl>
                                          <p:spTgt spid="9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9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9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1000"/>
                                        <p:tgtEl>
                                          <p:spTgt spid="9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9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9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Example: Negative NPV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ase, stockholders would actually prefer the negative NPV project to either of the positive NPV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ckholders benefit from the increased volatility associated with the project even if the expected NPV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appens because of the large levels of leve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0" dur="indefinite" restart="never" nodeType="tmRoot">
          <p:childTnLst>
            <p:seq>
              <p:cTn id="1971" dur="indefinite" nodeType="mainSeq">
                <p:childTnLst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6" dur="10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3" dur="10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Options and Capital Budgeting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eneral rule, managers should not accept low or negative NPV projects and pass up high NPV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certain circumstances, however, this may benefit stockhold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m is highly lever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w or negative NPV project causes a substantial increase in the standard deviation of asset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1000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8487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22.11 Investment in Real Projects and Options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874880"/>
            <a:ext cx="791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 NPV calculations generally ignore the flexibility that real-world firms typically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9" dur="indefinite" restart="never" nodeType="tmRoot">
          <p:childTnLst>
            <p:seq>
              <p:cTn id="2020" dur="indefinite" nodeType="mainSeq">
                <p:childTnLst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5" dur="1000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Quick Quiz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 between call and put op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major determinants of option pr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ut-call parity? What would happen if it does not h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Black-Scholes option pricing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equity be viewed as a call o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 firm do a merger for diversification purposes only? 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management ever accept a negative NPV project? If yes, under what circumsta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9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9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9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9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9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9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1000"/>
                                        <p:tgtEl>
                                          <p:spTgt spid="9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1000" fill="hold"/>
                                        <p:tgtEl>
                                          <p:spTgt spid="9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9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Call Option Payoff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1143000"/>
            <a:ext cx="0" cy="502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191120"/>
            <a:ext cx="667368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8120" y="49687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9360" y="420516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40080" y="4206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4480" y="4206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8880" y="4206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02360" y="4192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7320" y="42069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8120" y="58690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4800" y="3125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4800" y="2149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4800" y="129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5640" y="4525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ck 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19080" y="24732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on payoff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40528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57960" y="40528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40528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40528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40528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29160" y="4038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4479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37636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3276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511956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60199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833400">
            <a:off x="5841000" y="139824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uy a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4191120"/>
            <a:ext cx="228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38480" y="1905120"/>
            <a:ext cx="2286000" cy="228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5791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price = $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11680" y="43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420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Call Option Profit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71600" y="545616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price = $50; option premium = $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024440" y="2286000"/>
            <a:ext cx="2286000" cy="2286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38440" y="4572000"/>
            <a:ext cx="2286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54720" y="203508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uy a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62120" y="1066680"/>
            <a:ext cx="7573320" cy="5094360"/>
            <a:chOff x="762120" y="1066680"/>
            <a:chExt cx="7573320" cy="5094360"/>
          </a:xfrm>
        </p:grpSpPr>
        <p:sp>
          <p:nvSpPr>
            <p:cNvPr id="149" name=""/>
            <p:cNvSpPr/>
            <p:nvPr/>
          </p:nvSpPr>
          <p:spPr>
            <a:xfrm>
              <a:off x="1738080" y="10666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61760" y="4114800"/>
              <a:ext cx="667368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3720" y="48927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14960" y="412920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25320" y="4130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39720" y="4130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54120" y="4130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87600" y="41162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82920" y="4130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53720" y="57927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30040" y="3049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30040" y="20732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30040" y="1220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00880" y="4449600"/>
              <a:ext cx="160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ock price ($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-33120" y="2396880"/>
              <a:ext cx="19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ption payoffs ($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10080" y="397656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43560" y="397656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52480" y="397656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66880" y="397656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81280" y="397656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4760" y="39625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85800" y="1371600"/>
              <a:ext cx="15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85800" y="2300400"/>
              <a:ext cx="15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85800" y="3200400"/>
              <a:ext cx="15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85800" y="5043600"/>
              <a:ext cx="15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85800" y="5943600"/>
              <a:ext cx="15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79728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24440" y="39751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54080" y="44197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85800" y="457056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53720" y="3505320"/>
            <a:ext cx="4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5800" y="365616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9:32:03Z</dcterms:created>
  <dc:creator>MHE</dc:creator>
  <dc:description/>
  <dc:language>en-US</dc:language>
  <cp:lastModifiedBy>MHE</cp:lastModifiedBy>
  <dcterms:modified xsi:type="dcterms:W3CDTF">2006-08-23T16:32:32Z</dcterms:modified>
  <cp:revision>3</cp:revision>
  <dc:subject/>
  <dc:title>Slide 1</dc:title>
</cp:coreProperties>
</file>