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0BD4-59E2-43C4-B707-16CEA8821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, this farmer could also participate in weather futures if he were that concerned about the forec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note that for index futures or interest rate futures, finding the number of contracts is not as straightforward since adjustments must be made for beta and duration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ly, leave the payments per year at 1 and enter an interest rate of 2.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complicated in a hur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gins are typically a set amount per contract, not necessarily a percentage, although the average is around 4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ts may wish to work this example from the counterparties point of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916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56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70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56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70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77429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77429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77429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916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916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456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70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456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70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77429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916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666880" cy="6858000"/>
          </a:xfrm>
          <a:prstGeom prst="rect">
            <a:avLst/>
          </a:prstGeom>
          <a:solidFill>
            <a:srgbClr val="bce07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d7742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153280" y="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343C4CC-62E7-4C28-92F6-6A967265E14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09880" y="6583320"/>
            <a:ext cx="533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pyright © 2008 by The McGraw-Hill Companies, Inc. All rights reserved</a:t>
            </a:r>
            <a:r>
              <a:rPr b="0" lang="en-US" sz="1200" spc="-1" strike="noStrike">
                <a:solidFill>
                  <a:srgbClr val="e6e6e6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0"/>
            <a:ext cx="2666880" cy="6858000"/>
          </a:xfrm>
          <a:prstGeom prst="rect">
            <a:avLst/>
          </a:prstGeom>
          <a:solidFill>
            <a:srgbClr val="bce07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d7742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6583320"/>
            <a:ext cx="533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pyright © 2008 by The McGraw-Hill Companies, Inc. All rights reserved</a:t>
            </a:r>
            <a:r>
              <a:rPr b="0" lang="en-US" sz="1200" spc="-1" strike="noStrike">
                <a:solidFill>
                  <a:srgbClr val="e6e6e6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133720"/>
            <a:ext cx="2209680" cy="22096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990720"/>
            <a:ext cx="2438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Book Antiqua"/>
              </a:rPr>
              <a:t>CHAP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66688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Book Antiqua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77429"/>
                </a:solidFill>
                <a:latin typeface="Book Antiqua"/>
              </a:rPr>
              <a:t>Click to edit the outline text format</a:t>
            </a:r>
            <a:endParaRPr b="1" lang="en-US" sz="4000" spc="-1" strike="noStrike">
              <a:solidFill>
                <a:srgbClr val="d77429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52320" y="26665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77429"/>
                </a:solidFill>
                <a:latin typeface="Book Antiqua"/>
              </a:rPr>
              <a:t>Derivatives and Hedging Risk </a:t>
            </a:r>
            <a:endParaRPr b="1" lang="en-US" sz="4000" spc="-1" strike="noStrike">
              <a:solidFill>
                <a:srgbClr val="d77429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Daily Resettlement: An Example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39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7640" indent="-28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$559.29 comes out of your $3,333.33 margin account, leaving $2,774.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short of the $3,355.70 required for a new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038480"/>
            <a:ext cx="80010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broker will let you slide until you run through you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intenance margi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you must post additional funds, or your position will be closed out. This is usually done with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versing t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828800" y="2986200"/>
            <a:ext cx="5961960" cy="1053720"/>
            <a:chOff x="1828800" y="2986200"/>
            <a:chExt cx="5961960" cy="1053720"/>
          </a:xfrm>
        </p:grpSpPr>
        <p:sp>
          <p:nvSpPr>
            <p:cNvPr id="149" name=""/>
            <p:cNvSpPr/>
            <p:nvPr/>
          </p:nvSpPr>
          <p:spPr>
            <a:xfrm>
              <a:off x="1828800" y="3228840"/>
              <a:ext cx="58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$3,355.70 = 0.04 </a:t>
              </a: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  <a:ea typeface="Times New Roman"/>
                </a:rPr>
                <a:t>× </a:t>
              </a: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¥12,500,000 </a:t>
              </a: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  <a:ea typeface="Times New Roman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96880" y="351936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¥1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75080" y="29862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$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0" y="3519360"/>
              <a:ext cx="838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Selected Futures Contract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43000" y="1143000"/>
          <a:ext cx="7391520" cy="49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39152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Futures Market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hicago Mercantile Exchange (CME) is by far the larges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inclu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iladelphia Board of Trade (PB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dAmerica Commodities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kyo International Financial Futures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don International Financial Futures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77429"/>
                </a:solidFill>
                <a:latin typeface="Arial"/>
              </a:rPr>
              <a:t>Wall Street Journal</a:t>
            </a:r>
            <a:r>
              <a:rPr b="0" lang="en-US" sz="3600" spc="-1" strike="noStrike">
                <a:solidFill>
                  <a:srgbClr val="d77429"/>
                </a:solidFill>
                <a:latin typeface="Arial"/>
              </a:rPr>
              <a:t> Futures Price Quotes</a:t>
            </a:r>
            <a:endParaRPr b="0" lang="en-US" sz="3600" spc="-1" strike="noStrike">
              <a:solidFill>
                <a:srgbClr val="d77429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90720" y="1319040"/>
          <a:ext cx="7924680" cy="437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19040"/>
                    <a:ext cx="792468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914400" y="2971800"/>
            <a:ext cx="685800" cy="5000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5886360"/>
            <a:ext cx="2286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xpiry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971800"/>
            <a:ext cx="609480" cy="5000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375080"/>
            <a:ext cx="2286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pening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2971800"/>
            <a:ext cx="609840" cy="5335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90760" y="1219320"/>
            <a:ext cx="338616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price that 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2971800"/>
            <a:ext cx="762120" cy="5000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352680"/>
            <a:ext cx="1440" cy="22100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626080"/>
            <a:ext cx="338616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price tha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2971800"/>
            <a:ext cx="762120" cy="5335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4375080"/>
            <a:ext cx="2286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losing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971800"/>
            <a:ext cx="609480" cy="5000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4375080"/>
            <a:ext cx="262548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Dail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2971800"/>
            <a:ext cx="1600200" cy="5335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816200"/>
            <a:ext cx="84582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and lowest prices over the  lifetime of the con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010280" y="2209680"/>
            <a:ext cx="76320" cy="6098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2928960"/>
            <a:ext cx="990720" cy="5000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848720" y="3505320"/>
            <a:ext cx="304560" cy="23619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5600" y="5943600"/>
            <a:ext cx="39798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Number of open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86160" y="3108600"/>
            <a:ext cx="1827720" cy="336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5" y="1"/>
                </a:moveTo>
                <a:arcTo wR="10800" hR="10800" stAng="-5449423" swAng="8721220"/>
                <a:lnTo>
                  <a:pt x="10800" y="10800"/>
                </a:lnTo>
                <a:close/>
              </a:path>
              <a:path fill="none" w="21600" h="21600">
                <a:moveTo>
                  <a:pt x="10645" y="1"/>
                </a:moveTo>
                <a:arcTo wR="10800" hR="10800" stAng="-5449423" swAng="8721220"/>
              </a:path>
            </a:pathLst>
          </a:custGeom>
          <a:noFill/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446840" y="3190320"/>
            <a:ext cx="1371240" cy="142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56" y="2711"/>
                </a:moveTo>
                <a:arcTo wR="10800" hR="10800" stAng="-2910033" swAng="6777158"/>
                <a:lnTo>
                  <a:pt x="10800" y="10800"/>
                </a:lnTo>
                <a:close/>
              </a:path>
              <a:path fill="none" w="21600" h="21600">
                <a:moveTo>
                  <a:pt x="17956" y="2711"/>
                </a:moveTo>
                <a:arcTo wR="10800" hR="10800" stAng="-2910033" swAng="6777158"/>
              </a:path>
            </a:pathLst>
          </a:custGeom>
          <a:noFill/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90760" y="3281040"/>
            <a:ext cx="1523880" cy="142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56" y="2711"/>
                </a:moveTo>
                <a:arcTo wR="10800" hR="10800" stAng="-2910033" swAng="6991986"/>
                <a:lnTo>
                  <a:pt x="10800" y="10800"/>
                </a:lnTo>
                <a:close/>
              </a:path>
              <a:path fill="none" w="21600" h="21600">
                <a:moveTo>
                  <a:pt x="17956" y="2711"/>
                </a:moveTo>
                <a:arcTo wR="10800" hR="10800" stAng="-2910033" swAng="6991986"/>
              </a:path>
            </a:pathLst>
          </a:custGeom>
          <a:noFill/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181480" y="3386520"/>
            <a:ext cx="1066680" cy="142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487" y="6025"/>
                </a:moveTo>
                <a:arcTo wR="10800" hR="10800" stAng="-1574260" swAng="5656213"/>
                <a:lnTo>
                  <a:pt x="10800" y="10800"/>
                </a:lnTo>
                <a:close/>
              </a:path>
              <a:path fill="none" w="21600" h="21600">
                <a:moveTo>
                  <a:pt x="20487" y="6025"/>
                </a:moveTo>
                <a:arcTo wR="10800" hR="10800" stAng="-1574260" swAng="5656213"/>
              </a:path>
            </a:pathLst>
          </a:custGeom>
          <a:noFill/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294560" y="1031400"/>
            <a:ext cx="5181480" cy="210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556" y="6168"/>
                </a:moveTo>
                <a:arcTo wR="10800" hR="10800" stAng="-1523943" swAng="5391068"/>
                <a:lnTo>
                  <a:pt x="10800" y="10800"/>
                </a:lnTo>
                <a:close/>
              </a:path>
              <a:path fill="none" w="21600" h="21600">
                <a:moveTo>
                  <a:pt x="20556" y="6168"/>
                </a:moveTo>
                <a:arcTo wR="10800" hR="10800" stAng="-1523943" swAng="5391068"/>
              </a:path>
            </a:pathLst>
          </a:custGeom>
          <a:noFill/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Basic Futures Relationship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n Inte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e number of contracts outstanding for a particular delivery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terest is a good proxy for the demand for a contr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fer to open interest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market.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read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market would be how many different contracts (expiry month) are outsta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5.4 Hedging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unterparties with offsetting risks can eliminate ri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a wheat farmer and a flour mill enter into a forward contract, they can eliminate the risk each other faces regarding the future price of wh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dgers can also transfer price risk to speculators, who absorb price risk from hed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ulating:  Long vs.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Hedging and Speculating: Example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peculate that copper will go up in price, so you go long 10 copper contracts for delivery in 3 months. A contract is 25,000 pounds in cents per pound and is at $0.70 per pound, or $17,500 per contrac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futures prices rise by 5 cents, you will ga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in = 25,0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.0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0 = $12,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prices decrease by 5 cents, your loss 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s = 25,0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×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05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0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12,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Hedging: How many contracts?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a farmer, and you will harvest 50,000 bushels of corn in 3 months. You want to hedge against a price decrease. Corn is quoted in cents per bushel at 5,000 bushels per contract. It  is currently at $2.30 cents for a contract 3 months out, and the spot price is $2.0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dge, you will sell 10 corn futures contr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3341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you can quit worrying about the price of corn and get back to worrying about the wea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523880" y="4191120"/>
            <a:ext cx="6336360" cy="1053720"/>
            <a:chOff x="1523880" y="4191120"/>
            <a:chExt cx="6336360" cy="1053720"/>
          </a:xfrm>
        </p:grpSpPr>
        <p:sp>
          <p:nvSpPr>
            <p:cNvPr id="195" name=""/>
            <p:cNvSpPr/>
            <p:nvPr/>
          </p:nvSpPr>
          <p:spPr>
            <a:xfrm>
              <a:off x="1523880" y="443376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10 contracts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45600" y="4724280"/>
              <a:ext cx="391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5,000 bushels per contra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9760" y="4191120"/>
              <a:ext cx="231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50,000 bush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2160" y="472428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25.5 Interest Rate Futures Contracts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ing of Treasury 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ing of Forward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dging in Interest Rate Fu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Pricing of Treasury Bond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Treasury bond that pays a semiannual coupon of $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nex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ield to maturity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725480" y="4865760"/>
                <a:ext cx="540864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762120" y="3886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the T-bond under a flat term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PV of face value + PV of coupo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523880" y="2362320"/>
            <a:ext cx="5790960" cy="1458000"/>
            <a:chOff x="1523880" y="2362320"/>
            <a:chExt cx="5790960" cy="1458000"/>
          </a:xfrm>
        </p:grpSpPr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2757240" y="2362320"/>
                  <a:ext cx="353880" cy="41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752480" y="305568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52480" y="28270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95480" y="28270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19360" y="28270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28840" y="2674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ok Antiqu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3880" y="336060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1        2        3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43240" y="30556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81680" y="28270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4278240" y="2362320"/>
                  <a:ext cx="353880" cy="41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6370560" y="2362320"/>
                  <a:ext cx="944280" cy="41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+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>
              <a:off x="3657240" y="28270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531960" y="2363400"/>
                  <a:ext cx="35388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Key Concepts and Skill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4479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 the basics of forward and futures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 how derivatives can be used to hedge risks faced by the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Pricing of Treasury Bond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term structure of interest rates is not flat, then we need to discount the payments at different rates depending upon matur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2760" y="4648320"/>
                <a:ext cx="86612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1371600" y="4267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 PV of face value + PV of coupon pay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676520" y="2590920"/>
            <a:ext cx="5790960" cy="1458000"/>
            <a:chOff x="1676520" y="2590920"/>
            <a:chExt cx="5790960" cy="1458000"/>
          </a:xfrm>
        </p:grpSpPr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2909880" y="2590920"/>
                  <a:ext cx="353880" cy="41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1905120" y="328428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30556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8120" y="30556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30556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81480" y="29034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ok Antiqu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76520" y="358920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1        2        3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5880" y="32842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34320" y="30556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4430880" y="2590920"/>
                  <a:ext cx="353880" cy="41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6523200" y="2590920"/>
                  <a:ext cx="944280" cy="41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+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"/>
            <p:cNvSpPr/>
            <p:nvPr/>
          </p:nvSpPr>
          <p:spPr>
            <a:xfrm>
              <a:off x="3809880" y="30556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3684600" y="2592000"/>
                  <a:ext cx="35388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Pricing of Forward Contract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iod forward contract on that T-Bon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43000" y="1828800"/>
            <a:ext cx="6933960" cy="1531440"/>
            <a:chOff x="1143000" y="1828800"/>
            <a:chExt cx="6933960" cy="153144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3290760" y="1901880"/>
                  <a:ext cx="3538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1" name=""/>
            <p:cNvSpPr/>
            <p:nvPr/>
          </p:nvSpPr>
          <p:spPr>
            <a:xfrm>
              <a:off x="1295280" y="2587680"/>
              <a:ext cx="411480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5280" y="2367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29000" y="2367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52880" y="2367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360" y="2214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ook Antiqu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3000" y="2900520"/>
              <a:ext cx="69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N+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N+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2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N+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3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N+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6760" y="25956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5200" y="2367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4811760" y="1901880"/>
                  <a:ext cx="3538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6904080" y="1901880"/>
                  <a:ext cx="9442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+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"/>
            <p:cNvSpPr/>
            <p:nvPr/>
          </p:nvSpPr>
          <p:spPr>
            <a:xfrm>
              <a:off x="4190760" y="2367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4065480" y="1903680"/>
                  <a:ext cx="35388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2590560" y="2359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1981080" y="1828800"/>
                  <a:ext cx="126828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orwar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5" name=""/>
          <p:cNvSpPr/>
          <p:nvPr/>
        </p:nvSpPr>
        <p:spPr>
          <a:xfrm>
            <a:off x="685800" y="3352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n be valued as the present value of the forward pri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96720" y="5032440"/>
                <a:ext cx="842832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827440" y="3809880"/>
                <a:ext cx="27381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orward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7429"/>
                </a:solidFill>
                <a:latin typeface="Arial"/>
              </a:rPr>
              <a:t>Pricing of Forward Contracts: Example</a:t>
            </a:r>
            <a:endParaRPr b="0" lang="en-US" sz="36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value of a 5-year forward contract on a 20-year T-bo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pon rate is 6 percent per annum, and payments are made semiannually on a par value of $1,0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499104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339084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579132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419112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259092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33908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1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5791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1a"/>
                </a:solidFill>
                <a:latin typeface="Times New Roman"/>
              </a:rPr>
              <a:t>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09680" y="4129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,125.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2590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1a"/>
                </a:solidFill>
                <a:latin typeface="Times New Roman"/>
              </a:rPr>
              <a:t>40 = 20 </a:t>
            </a:r>
            <a:r>
              <a:rPr b="0" lang="en-US" sz="2800" spc="-1" strike="noStrike">
                <a:solidFill>
                  <a:srgbClr val="644a1a"/>
                </a:solidFill>
                <a:latin typeface="Times New Roman"/>
                <a:ea typeface="Times New Roman"/>
              </a:rPr>
              <a:t>×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19112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590920"/>
            <a:ext cx="38862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The Yield to Maturity is 5 perc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First, set your calculator to 2 payments per yea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Then enter what you know and solve for the value of a 20-year Treasury bond at the maturity of the forward con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209680" y="4724280"/>
            <a:ext cx="2665800" cy="1053720"/>
            <a:chOff x="2209680" y="4724280"/>
            <a:chExt cx="2665800" cy="1053720"/>
          </a:xfrm>
        </p:grpSpPr>
        <p:sp>
          <p:nvSpPr>
            <p:cNvPr id="272" name=""/>
            <p:cNvSpPr/>
            <p:nvPr/>
          </p:nvSpPr>
          <p:spPr>
            <a:xfrm>
              <a:off x="2209680" y="499104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30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24080" y="5257440"/>
              <a:ext cx="1676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29000" y="525744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1520" y="472428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1,000 × .0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72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7429"/>
                </a:solidFill>
                <a:latin typeface="Arial"/>
              </a:rPr>
              <a:t>Pricing of Forward Contracts: Example</a:t>
            </a:r>
            <a:endParaRPr b="0" lang="en-US" sz="36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, set your calculator to 1 payment per y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, use the cash flow men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491508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331488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571500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11480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251460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114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1a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3314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1a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571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1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81.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1a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4815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,125.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53836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3338640"/>
            <a:ext cx="914400" cy="45972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50000">
                <a:srgbClr val="cc6600"/>
              </a:gs>
              <a:gs pos="100000">
                <a:srgbClr val="993300"/>
              </a:gs>
            </a:gsLst>
            <a:lin ang="5400000"/>
          </a:gra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6292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4a1a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74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Pricing of Futures Contract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icing equation given above will be a good approxi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nly real difference is the daily resettl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Hedging in Interest Rate Future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rtgage lender who has agreed to loan money in the future at prices set today can hedge by selling those mortgages for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be difficult to find a counterparty in the forward who wants the precise mix of risk, maturity, and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ikely to be easier and cheaper to use interest rate futures con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5.6 Duration Hedging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n alternative to hedging with futures or forwards, one can hedge by matching the interest rate risk of assets with the interest rate risk of liabil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the key to measuring interest rate ris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37720" y="9907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ration measures the combined effect of maturity, coupon rate, and YTM on a bond’s price sensitivity to interest ra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of the bond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ective mat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of the average life of th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average maturity of the bond’s cash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Duration Hedging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Duration Formula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38080" y="2286000"/>
                <a:ext cx="7801200" cy="33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Calculating Duration: Example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culate the duration of a three-year bond that pays a semiannual coupon of $40 and has a $1,000 par value when the YTM is 8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.1 Derivatives, Hedging, and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.2 Forward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.3 Futures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.4 Hed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.5 Interest Rate Futures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.6 Duration Hed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.7 Swap Contr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.8 Actual Use of Deri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814320" y="1447920"/>
          <a:ext cx="802476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1447920"/>
                    <a:ext cx="80247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Calculating Duration: Example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966960" y="4952880"/>
            <a:ext cx="7772040" cy="1374120"/>
            <a:chOff x="966960" y="4952880"/>
            <a:chExt cx="7772040" cy="1374120"/>
          </a:xfrm>
        </p:grpSpPr>
        <p:sp>
          <p:nvSpPr>
            <p:cNvPr id="308" name=""/>
            <p:cNvSpPr/>
            <p:nvPr/>
          </p:nvSpPr>
          <p:spPr>
            <a:xfrm>
              <a:off x="6377040" y="4952880"/>
              <a:ext cx="2133720" cy="533520"/>
            </a:xfrm>
            <a:prstGeom prst="ellipse">
              <a:avLst/>
            </a:prstGeom>
            <a:noFill/>
            <a:ln cap="sq"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66960" y="5867280"/>
              <a:ext cx="75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ration is expressed in units of time, usually year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605640" y="5104800"/>
              <a:ext cx="2133360" cy="106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861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861913"/>
                </a:path>
              </a:pathLst>
            </a:custGeom>
            <a:noFill/>
            <a:ln cap="sq"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Duration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er maturity, longer d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ation increases at a decreasing 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er coupon, shorter d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er yield, shorter d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Zero coupon bond: duration = maturit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5.7 Swaps Contract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wap, tw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erpa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ent to a contractual arrangement wherein they agree to exchange cash flows at periodic inter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s of interest rate sw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currency interest rate 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in vanilla” fixed-for-floating swaps are often just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est rate sw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Currency interest rate s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often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rrency sw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fixed for fixed rate debt service in two (or more) curr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The Swap Bank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90880" indent="-290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wap bank is a generic term to describe a financial institution that facilitates swaps between counterpar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0880" indent="-290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wap bank can serve as either a broker or a dea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2160" indent="-243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broker, the swap bank matches counterparties but does not assume any of the risks of the swa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2160" indent="-243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dealer, the swap bank stands ready to accept either side of a currency swap, and then later lay off their risk, or match it with a counterparty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7429"/>
                </a:solidFill>
                <a:latin typeface="Arial"/>
              </a:rPr>
              <a:t>An Example of an Interest Rate Swap</a:t>
            </a:r>
            <a:endParaRPr b="0" lang="en-US" sz="36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838188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90880" indent="-29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is example of a “plain vanilla” interest rate sw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0880" indent="-29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 A is a AAA-rated international bank located in the U.K. and wishes to raise $10,000,000 to finance floating-rate Eurodollar lo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2160" indent="-243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 A is considering issuing 5-year fixed-rate Eurodollar bonds at 10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2160" indent="-243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uld make more sense to for the bank to issue floating-rate notes at LIBOR to finance floating-rate Eurodollar lo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7429"/>
                </a:solidFill>
                <a:latin typeface="Arial"/>
              </a:rPr>
              <a:t>An Example of an Interest Rate Swap</a:t>
            </a:r>
            <a:endParaRPr b="0" lang="en-US" sz="36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807732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B is a BBB-rated U.S. company. It needs $10,000,000 to finance an investment with a five-year economic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m B is considering issuing 5-year fixed-rate Eurodollar bonds at 11.75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firm B can raise the money by issuing 5-year floating-rate notes at LIBOR + ½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m B would prefer to borrow at a fixed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An Example of an Interest Rate Swap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rrowing opportunities of the two firm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444680" y="2971800"/>
          <a:ext cx="7623000" cy="29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2971800"/>
                    <a:ext cx="76230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An Example of an Interest Rate Swap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672160" y="1846440"/>
            <a:ext cx="33195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wap bank makes this offer to Bank A: You pay LIBOR – 1/8 % per year on $10 million for 5 years, and we will pay you 10 3/8% on $10 million for 5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438280" y="5029200"/>
          <a:ext cx="4656240" cy="122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029200"/>
                    <a:ext cx="465624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3809880" y="1905120"/>
            <a:ext cx="1752840" cy="10137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895480" y="2971800"/>
            <a:ext cx="1981080" cy="1143000"/>
            <a:chOff x="2895480" y="2971800"/>
            <a:chExt cx="1981080" cy="1143000"/>
          </a:xfrm>
        </p:grpSpPr>
        <p:sp>
          <p:nvSpPr>
            <p:cNvPr id="331" name=""/>
            <p:cNvSpPr/>
            <p:nvPr/>
          </p:nvSpPr>
          <p:spPr>
            <a:xfrm flipV="1">
              <a:off x="3657240" y="2971800"/>
              <a:ext cx="381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39840" y="3341520"/>
              <a:ext cx="183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BOR – 1/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895480" y="365760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514600" y="2362320"/>
            <a:ext cx="1219320" cy="1218960"/>
            <a:chOff x="2514600" y="2362320"/>
            <a:chExt cx="1219320" cy="1218960"/>
          </a:xfrm>
        </p:grpSpPr>
        <p:sp>
          <p:nvSpPr>
            <p:cNvPr id="335" name=""/>
            <p:cNvSpPr/>
            <p:nvPr/>
          </p:nvSpPr>
          <p:spPr>
            <a:xfrm flipH="1">
              <a:off x="2514600" y="3048120"/>
              <a:ext cx="5335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2743200"/>
              <a:ext cx="1016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3/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276720" y="236232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676520" y="3657600"/>
            <a:ext cx="1143000" cy="101376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2286000" y="5334120"/>
          <a:ext cx="4656240" cy="122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334120"/>
                    <a:ext cx="465624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An Example of an Interest Rate Swap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21320" y="2151000"/>
            <a:ext cx="34704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’s what’s in it for Bank A: They can borrow externally at 10% fixed and have a net borrowing posi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0 3/8 + 10 + (LIBOR – 1/8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OR – ½ %, which is ½ % better than they can borrow floating without a swa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36560" y="4357800"/>
            <a:ext cx="1015920" cy="366120"/>
            <a:chOff x="736560" y="4357800"/>
            <a:chExt cx="1015920" cy="366120"/>
          </a:xfrm>
        </p:grpSpPr>
        <p:sp>
          <p:nvSpPr>
            <p:cNvPr id="344" name=""/>
            <p:cNvSpPr/>
            <p:nvPr/>
          </p:nvSpPr>
          <p:spPr>
            <a:xfrm flipH="1">
              <a:off x="736560" y="4571640"/>
              <a:ext cx="101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040" y="4357800"/>
              <a:ext cx="6854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914400" y="167652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½% of $10,000,000 = $50,000. That’s quite a cost savings per year for 5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57600" y="2209680"/>
            <a:ext cx="1752480" cy="10137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743200" y="3276720"/>
            <a:ext cx="1981080" cy="1143000"/>
            <a:chOff x="2743200" y="3276720"/>
            <a:chExt cx="1981080" cy="1143000"/>
          </a:xfrm>
        </p:grpSpPr>
        <p:sp>
          <p:nvSpPr>
            <p:cNvPr id="349" name=""/>
            <p:cNvSpPr/>
            <p:nvPr/>
          </p:nvSpPr>
          <p:spPr>
            <a:xfrm flipV="1">
              <a:off x="3504960" y="3276720"/>
              <a:ext cx="381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87560" y="3646440"/>
              <a:ext cx="183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BOR – 1/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743200" y="396252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361960" y="2666880"/>
            <a:ext cx="1218600" cy="1218960"/>
            <a:chOff x="2361960" y="2666880"/>
            <a:chExt cx="1218600" cy="1218960"/>
          </a:xfrm>
        </p:grpSpPr>
        <p:sp>
          <p:nvSpPr>
            <p:cNvPr id="353" name=""/>
            <p:cNvSpPr/>
            <p:nvPr/>
          </p:nvSpPr>
          <p:spPr>
            <a:xfrm flipH="1">
              <a:off x="2361960" y="3352680"/>
              <a:ext cx="5331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4240" y="3047760"/>
              <a:ext cx="101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3/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123720" y="2666880"/>
              <a:ext cx="456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523880" y="3962520"/>
            <a:ext cx="1143000" cy="101376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5943600"/>
            <a:ext cx="10666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An Example of an Interest Rate Swap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4105440"/>
            <a:ext cx="1523880" cy="998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mpan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1523880"/>
            <a:ext cx="266688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swap bank makes this offer to company B: You pay us 10½% per year on $10 million for 5 years, and we will pay you LIBOR – ¼ % per year on $10 million for 5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33920" y="2352600"/>
            <a:ext cx="1752480" cy="10137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486040" y="2809800"/>
            <a:ext cx="1600560" cy="1218960"/>
            <a:chOff x="5486040" y="2809800"/>
            <a:chExt cx="1600560" cy="1218960"/>
          </a:xfrm>
        </p:grpSpPr>
        <p:sp>
          <p:nvSpPr>
            <p:cNvPr id="363" name=""/>
            <p:cNvSpPr/>
            <p:nvPr/>
          </p:nvSpPr>
          <p:spPr>
            <a:xfrm flipH="1" flipV="1">
              <a:off x="5486040" y="2809800"/>
              <a:ext cx="6094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43600" y="3281040"/>
              <a:ext cx="98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½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6476760" y="357156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800600" y="3419640"/>
            <a:ext cx="1709640" cy="1059840"/>
            <a:chOff x="4800600" y="3419640"/>
            <a:chExt cx="1709640" cy="1059840"/>
          </a:xfrm>
        </p:grpSpPr>
        <p:sp>
          <p:nvSpPr>
            <p:cNvPr id="367" name=""/>
            <p:cNvSpPr/>
            <p:nvPr/>
          </p:nvSpPr>
          <p:spPr>
            <a:xfrm>
              <a:off x="5943600" y="4105080"/>
              <a:ext cx="50004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00600" y="3800160"/>
              <a:ext cx="170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BOR – ¼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05160" y="3419640"/>
              <a:ext cx="50004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2362320" y="5324400"/>
          <a:ext cx="4655880" cy="122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324400"/>
                    <a:ext cx="465588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5.2 Forward Contract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ward contract specifies that a certain commodity will be exchanged at a specified time in the future at a price specified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not an option: both parties are expected to hold up their end of the d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ever ordered a textbook that was not in stock, you have entered into a forward con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2057400" y="5334120"/>
          <a:ext cx="4656240" cy="122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334120"/>
                    <a:ext cx="465624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An Example of an Interest Rate Swap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3171960"/>
            <a:ext cx="54864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can borrow externally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OR + ½ % and have a 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rowing posi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½  + (LIBOR + ½ 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LIBOR - ¼ )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.25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is ½% better than they can borrow floating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772400" y="44197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721640" y="4086360"/>
            <a:ext cx="931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BOR + ½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38480" y="5656320"/>
            <a:ext cx="762120" cy="43956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752480"/>
            <a:ext cx="380988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e’s what’s in it for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30760" y="2063880"/>
            <a:ext cx="287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½ % of $10,000,000 = $50,000 that’s quite a cost savings per year for 5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2209680"/>
            <a:ext cx="1752480" cy="10137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72200" y="3962520"/>
            <a:ext cx="1523880" cy="998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mpan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181120" y="2666880"/>
            <a:ext cx="1600560" cy="1218960"/>
            <a:chOff x="5181120" y="2666880"/>
            <a:chExt cx="1600560" cy="1218960"/>
          </a:xfrm>
        </p:grpSpPr>
        <p:sp>
          <p:nvSpPr>
            <p:cNvPr id="384" name=""/>
            <p:cNvSpPr/>
            <p:nvPr/>
          </p:nvSpPr>
          <p:spPr>
            <a:xfrm flipH="1" flipV="1">
              <a:off x="5181120" y="2666880"/>
              <a:ext cx="6094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3138120"/>
              <a:ext cx="98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½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171840" y="342864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495680" y="3276720"/>
            <a:ext cx="1709640" cy="1059840"/>
            <a:chOff x="4495680" y="3276720"/>
            <a:chExt cx="1709640" cy="1059840"/>
          </a:xfrm>
        </p:grpSpPr>
        <p:sp>
          <p:nvSpPr>
            <p:cNvPr id="388" name=""/>
            <p:cNvSpPr/>
            <p:nvPr/>
          </p:nvSpPr>
          <p:spPr>
            <a:xfrm>
              <a:off x="5638680" y="3962160"/>
              <a:ext cx="50004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3657240"/>
              <a:ext cx="170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BOR – ¼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00240" y="3276720"/>
              <a:ext cx="50004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An Example of an Interest Rate Swap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1600200"/>
            <a:ext cx="52578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wap bank makes money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43600" y="1676520"/>
            <a:ext cx="270972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¼% of $10 million = $25,000 per year for 5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63880" y="4097160"/>
            <a:ext cx="347040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LIBOR – 1/8 – [LIBOR – ¼ ]= 1/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0 ½ - 10 3/8 =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imes New Roman"/>
              </a:rPr>
              <a:t>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¼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09880" y="2133720"/>
            <a:ext cx="1752840" cy="10137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553080" y="3886200"/>
            <a:ext cx="1524240" cy="998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mpan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562360" y="2590920"/>
            <a:ext cx="1600560" cy="1218960"/>
            <a:chOff x="5562360" y="2590920"/>
            <a:chExt cx="1600560" cy="1218960"/>
          </a:xfrm>
        </p:grpSpPr>
        <p:sp>
          <p:nvSpPr>
            <p:cNvPr id="398" name=""/>
            <p:cNvSpPr/>
            <p:nvPr/>
          </p:nvSpPr>
          <p:spPr>
            <a:xfrm flipH="1" flipV="1">
              <a:off x="5562360" y="2590920"/>
              <a:ext cx="6094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19920" y="3062160"/>
              <a:ext cx="98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½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553080" y="3352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876920" y="3200400"/>
            <a:ext cx="1709640" cy="1060560"/>
            <a:chOff x="4876920" y="3200400"/>
            <a:chExt cx="1709640" cy="1060560"/>
          </a:xfrm>
        </p:grpSpPr>
        <p:sp>
          <p:nvSpPr>
            <p:cNvPr id="402" name=""/>
            <p:cNvSpPr/>
            <p:nvPr/>
          </p:nvSpPr>
          <p:spPr>
            <a:xfrm>
              <a:off x="6019920" y="3886200"/>
              <a:ext cx="500040" cy="37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76920" y="3581280"/>
              <a:ext cx="170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BOR – ¼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200400"/>
              <a:ext cx="500040" cy="37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895480" y="3200400"/>
            <a:ext cx="1981080" cy="1143000"/>
            <a:chOff x="2895480" y="3200400"/>
            <a:chExt cx="1981080" cy="1143000"/>
          </a:xfrm>
        </p:grpSpPr>
        <p:sp>
          <p:nvSpPr>
            <p:cNvPr id="406" name=""/>
            <p:cNvSpPr/>
            <p:nvPr/>
          </p:nvSpPr>
          <p:spPr>
            <a:xfrm flipV="1">
              <a:off x="3657240" y="3200400"/>
              <a:ext cx="381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9840" y="3570120"/>
              <a:ext cx="183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BOR – 1/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895480" y="388620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514600" y="2590920"/>
            <a:ext cx="1219320" cy="1218960"/>
            <a:chOff x="2514600" y="2590920"/>
            <a:chExt cx="1219320" cy="1218960"/>
          </a:xfrm>
        </p:grpSpPr>
        <p:sp>
          <p:nvSpPr>
            <p:cNvPr id="410" name=""/>
            <p:cNvSpPr/>
            <p:nvPr/>
          </p:nvSpPr>
          <p:spPr>
            <a:xfrm flipH="1">
              <a:off x="2514600" y="3276720"/>
              <a:ext cx="5335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66880" y="2971800"/>
              <a:ext cx="1016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3/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276720" y="259092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676520" y="3886200"/>
            <a:ext cx="1143000" cy="101376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438280" y="5257800"/>
          <a:ext cx="4656240" cy="122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257800"/>
                    <a:ext cx="465624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An Example of an Interest Rate Swap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33920" y="2146320"/>
            <a:ext cx="1752480" cy="10137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77120" y="3898800"/>
            <a:ext cx="1523880" cy="998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mpan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486040" y="2603520"/>
            <a:ext cx="1600560" cy="1218960"/>
            <a:chOff x="5486040" y="2603520"/>
            <a:chExt cx="1600560" cy="1218960"/>
          </a:xfrm>
        </p:grpSpPr>
        <p:sp>
          <p:nvSpPr>
            <p:cNvPr id="420" name=""/>
            <p:cNvSpPr/>
            <p:nvPr/>
          </p:nvSpPr>
          <p:spPr>
            <a:xfrm flipH="1" flipV="1">
              <a:off x="5486040" y="2603520"/>
              <a:ext cx="6094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43600" y="3074760"/>
              <a:ext cx="98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½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476760" y="33652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800600" y="3213000"/>
            <a:ext cx="1709640" cy="1060560"/>
            <a:chOff x="4800600" y="3213000"/>
            <a:chExt cx="1709640" cy="1060560"/>
          </a:xfrm>
        </p:grpSpPr>
        <p:sp>
          <p:nvSpPr>
            <p:cNvPr id="424" name=""/>
            <p:cNvSpPr/>
            <p:nvPr/>
          </p:nvSpPr>
          <p:spPr>
            <a:xfrm>
              <a:off x="5943600" y="3898800"/>
              <a:ext cx="500040" cy="37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3593880"/>
              <a:ext cx="170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BOR – ¼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05160" y="3213000"/>
              <a:ext cx="500040" cy="37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819520" y="3213000"/>
            <a:ext cx="1981080" cy="1143000"/>
            <a:chOff x="2819520" y="3213000"/>
            <a:chExt cx="1981080" cy="1143000"/>
          </a:xfrm>
        </p:grpSpPr>
        <p:sp>
          <p:nvSpPr>
            <p:cNvPr id="428" name=""/>
            <p:cNvSpPr/>
            <p:nvPr/>
          </p:nvSpPr>
          <p:spPr>
            <a:xfrm flipV="1">
              <a:off x="3581280" y="3213000"/>
              <a:ext cx="381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63880" y="3582720"/>
              <a:ext cx="183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BOR – 1/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819520" y="389880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438280" y="2603520"/>
            <a:ext cx="1219320" cy="1218960"/>
            <a:chOff x="2438280" y="2603520"/>
            <a:chExt cx="1219320" cy="1218960"/>
          </a:xfrm>
        </p:grpSpPr>
        <p:sp>
          <p:nvSpPr>
            <p:cNvPr id="432" name=""/>
            <p:cNvSpPr/>
            <p:nvPr/>
          </p:nvSpPr>
          <p:spPr>
            <a:xfrm flipH="1">
              <a:off x="2438280" y="3289320"/>
              <a:ext cx="5335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90560" y="2984400"/>
              <a:ext cx="1016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 3/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200400" y="260352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1600200" y="3898800"/>
            <a:ext cx="1143000" cy="101376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72200" y="4900680"/>
            <a:ext cx="1989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 saves ½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28760" y="4900680"/>
            <a:ext cx="194796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saves ½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1600200"/>
            <a:ext cx="38102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swap bank makes ¼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362320" y="5270400"/>
          <a:ext cx="4655880" cy="122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270400"/>
                    <a:ext cx="465588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An Example of a Currency Swap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81880" indent="-281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a U.S. MNC wants to finance 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£10,000,000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ansion of a British pl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880" indent="-281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could borrow dollars in the U.S. where they are well known and exchange dollars for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12360" indent="-2361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will give them exchange rate risk: financing a sterling project with doll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880" indent="-281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could borrow pounds in the international bond market, but pay a premium since they are not as well known abro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An Example of a Currency Swap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can find a British MNC with a mirror-image financing need they may both benefit from a sw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pot exchange rat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$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£) = $1.60/£, the U.S. firm needs to find a British firm wanting to finance dollar borrowing in the amount of $16,000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An Example of a Currency Swap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two firms A and B: firm A is a U.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multinational and firm B is a U.K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multinat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h firms wish to finance a project in each other’s country of the same size. Their borrowing opportunities are given in the table bel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438280" y="4876920"/>
          <a:ext cx="5673960" cy="30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876920"/>
                    <a:ext cx="567396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5943600" y="2438280"/>
            <a:ext cx="1447920" cy="1447920"/>
            <a:chOff x="5943600" y="2438280"/>
            <a:chExt cx="1447920" cy="1447920"/>
          </a:xfrm>
        </p:grpSpPr>
        <p:sp>
          <p:nvSpPr>
            <p:cNvPr id="450" name=""/>
            <p:cNvSpPr/>
            <p:nvPr/>
          </p:nvSpPr>
          <p:spPr>
            <a:xfrm>
              <a:off x="6705720" y="3200400"/>
              <a:ext cx="6858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43600" y="243828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72200" y="28195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9.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An Example of a Currency Swap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776680" y="5014800"/>
          <a:ext cx="4335480" cy="254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5014800"/>
                    <a:ext cx="433548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6900840" y="3657600"/>
            <a:ext cx="1100160" cy="1013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066680" y="3733920"/>
            <a:ext cx="914400" cy="457200"/>
            <a:chOff x="1066680" y="3733920"/>
            <a:chExt cx="914400" cy="457200"/>
          </a:xfrm>
        </p:grpSpPr>
        <p:sp>
          <p:nvSpPr>
            <p:cNvPr id="458" name=""/>
            <p:cNvSpPr/>
            <p:nvPr/>
          </p:nvSpPr>
          <p:spPr>
            <a:xfrm>
              <a:off x="1143000" y="3733920"/>
              <a:ext cx="838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06668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034480" y="3809880"/>
            <a:ext cx="880920" cy="457200"/>
            <a:chOff x="8034480" y="3809880"/>
            <a:chExt cx="880920" cy="457200"/>
          </a:xfrm>
        </p:grpSpPr>
        <p:sp>
          <p:nvSpPr>
            <p:cNvPr id="461" name=""/>
            <p:cNvSpPr/>
            <p:nvPr/>
          </p:nvSpPr>
          <p:spPr>
            <a:xfrm>
              <a:off x="8034480" y="3809880"/>
              <a:ext cx="880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£1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77320" y="42670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114800" y="1905120"/>
            <a:ext cx="1752480" cy="1013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3657600"/>
            <a:ext cx="1143000" cy="1013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200400" y="2971800"/>
            <a:ext cx="1981080" cy="1143000"/>
            <a:chOff x="3200400" y="2971800"/>
            <a:chExt cx="1981080" cy="1143000"/>
          </a:xfrm>
        </p:grpSpPr>
        <p:sp>
          <p:nvSpPr>
            <p:cNvPr id="466" name=""/>
            <p:cNvSpPr/>
            <p:nvPr/>
          </p:nvSpPr>
          <p:spPr>
            <a:xfrm flipV="1">
              <a:off x="3962160" y="2971800"/>
              <a:ext cx="381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44760" y="3341520"/>
              <a:ext cx="1836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£1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200400" y="365760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819160" y="2438280"/>
            <a:ext cx="1218600" cy="1218960"/>
            <a:chOff x="2819160" y="2438280"/>
            <a:chExt cx="1218600" cy="1218960"/>
          </a:xfrm>
        </p:grpSpPr>
        <p:sp>
          <p:nvSpPr>
            <p:cNvPr id="470" name=""/>
            <p:cNvSpPr/>
            <p:nvPr/>
          </p:nvSpPr>
          <p:spPr>
            <a:xfrm flipH="1">
              <a:off x="2819160" y="3124080"/>
              <a:ext cx="5331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71440" y="2819160"/>
              <a:ext cx="1015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580920" y="2438280"/>
              <a:ext cx="456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715000" y="2971800"/>
            <a:ext cx="1143000" cy="1143000"/>
            <a:chOff x="5715000" y="2971800"/>
            <a:chExt cx="1143000" cy="1143000"/>
          </a:xfrm>
        </p:grpSpPr>
        <p:sp>
          <p:nvSpPr>
            <p:cNvPr id="474" name=""/>
            <p:cNvSpPr/>
            <p:nvPr/>
          </p:nvSpPr>
          <p:spPr>
            <a:xfrm>
              <a:off x="6477120" y="37339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15000" y="297180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33526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£1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705720" y="33526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An Example of a Currency Swap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388620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$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34480" y="3962520"/>
            <a:ext cx="880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£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2666880" y="5105520"/>
          <a:ext cx="4335480" cy="254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5105520"/>
                    <a:ext cx="433548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6900840" y="3809880"/>
            <a:ext cx="1100160" cy="1013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066680" y="4343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077320" y="4419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14800" y="2057400"/>
            <a:ext cx="1752480" cy="1013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81080" y="3809880"/>
            <a:ext cx="1143000" cy="1013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200400" y="3124080"/>
            <a:ext cx="1981080" cy="1143000"/>
            <a:chOff x="3200400" y="3124080"/>
            <a:chExt cx="1981080" cy="1143000"/>
          </a:xfrm>
        </p:grpSpPr>
        <p:sp>
          <p:nvSpPr>
            <p:cNvPr id="489" name=""/>
            <p:cNvSpPr/>
            <p:nvPr/>
          </p:nvSpPr>
          <p:spPr>
            <a:xfrm flipV="1">
              <a:off x="3962160" y="3124080"/>
              <a:ext cx="381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44760" y="3493800"/>
              <a:ext cx="1836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£1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200400" y="380988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819160" y="2590920"/>
            <a:ext cx="1218600" cy="1218960"/>
            <a:chOff x="2819160" y="2590920"/>
            <a:chExt cx="1218600" cy="1218960"/>
          </a:xfrm>
        </p:grpSpPr>
        <p:sp>
          <p:nvSpPr>
            <p:cNvPr id="493" name=""/>
            <p:cNvSpPr/>
            <p:nvPr/>
          </p:nvSpPr>
          <p:spPr>
            <a:xfrm flipH="1">
              <a:off x="2819160" y="3276720"/>
              <a:ext cx="5331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71440" y="2971800"/>
              <a:ext cx="1015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$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580920" y="2590920"/>
              <a:ext cx="456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94360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2200" y="29718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9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715000" y="3124080"/>
            <a:ext cx="1143000" cy="1143000"/>
            <a:chOff x="5715000" y="3124080"/>
            <a:chExt cx="1143000" cy="1143000"/>
          </a:xfrm>
        </p:grpSpPr>
        <p:sp>
          <p:nvSpPr>
            <p:cNvPr id="499" name=""/>
            <p:cNvSpPr/>
            <p:nvPr/>
          </p:nvSpPr>
          <p:spPr>
            <a:xfrm>
              <a:off x="6477120" y="388620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15000" y="312408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43600" y="35049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£1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219320" y="1371600"/>
            <a:ext cx="538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’s net position is to borrow at £1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81240" y="4572000"/>
            <a:ext cx="194796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saves £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57800" y="5486400"/>
            <a:ext cx="93204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477120" y="33526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An Example of a Currency Swap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914400" y="388620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805880" y="3962520"/>
            <a:ext cx="880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£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2743200" y="4952880"/>
          <a:ext cx="4335480" cy="254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952880"/>
                    <a:ext cx="433548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6672240" y="3809880"/>
            <a:ext cx="1100160" cy="1013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8080" y="4343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848720" y="4419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86200" y="2057400"/>
            <a:ext cx="1752480" cy="1013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3809880"/>
            <a:ext cx="1143000" cy="1013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971800" y="3124080"/>
            <a:ext cx="1981080" cy="1143000"/>
            <a:chOff x="2971800" y="3124080"/>
            <a:chExt cx="1981080" cy="1143000"/>
          </a:xfrm>
        </p:grpSpPr>
        <p:sp>
          <p:nvSpPr>
            <p:cNvPr id="517" name=""/>
            <p:cNvSpPr/>
            <p:nvPr/>
          </p:nvSpPr>
          <p:spPr>
            <a:xfrm flipV="1">
              <a:off x="3733560" y="3124080"/>
              <a:ext cx="381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16160" y="3493800"/>
              <a:ext cx="1836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£1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2971800" y="380988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590560" y="2590920"/>
            <a:ext cx="1218600" cy="1218960"/>
            <a:chOff x="2590560" y="2590920"/>
            <a:chExt cx="1218600" cy="1218960"/>
          </a:xfrm>
        </p:grpSpPr>
        <p:sp>
          <p:nvSpPr>
            <p:cNvPr id="521" name=""/>
            <p:cNvSpPr/>
            <p:nvPr/>
          </p:nvSpPr>
          <p:spPr>
            <a:xfrm flipH="1">
              <a:off x="2590560" y="3276720"/>
              <a:ext cx="5331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2840" y="2971800"/>
              <a:ext cx="1015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352320" y="2590920"/>
              <a:ext cx="456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5715000" y="2590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943600" y="29718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9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486400" y="3124080"/>
            <a:ext cx="1143000" cy="1143000"/>
            <a:chOff x="5486400" y="3124080"/>
            <a:chExt cx="1143000" cy="1143000"/>
          </a:xfrm>
        </p:grpSpPr>
        <p:sp>
          <p:nvSpPr>
            <p:cNvPr id="527" name=""/>
            <p:cNvSpPr/>
            <p:nvPr/>
          </p:nvSpPr>
          <p:spPr>
            <a:xfrm>
              <a:off x="6248520" y="388620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86400" y="312408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35049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£1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762120" y="1371600"/>
            <a:ext cx="538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’s net position is to borrow at $9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5715000"/>
            <a:ext cx="9316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324480" y="4952880"/>
            <a:ext cx="19465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 saves $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240600" y="3276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An Example of a Currency Swap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7880" y="380988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69360" y="3886200"/>
            <a:ext cx="880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£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371600" y="5057640"/>
          <a:ext cx="4335480" cy="254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057640"/>
                    <a:ext cx="433548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6435720" y="3733920"/>
            <a:ext cx="1100160" cy="1013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601560" y="4267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12200" y="4343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77880" y="1523880"/>
            <a:ext cx="4876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swap bank makes money to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95480" y="3857760"/>
            <a:ext cx="3268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3300"/>
                </a:solidFill>
                <a:latin typeface="Times New Roman"/>
              </a:rPr>
              <a:t>At </a:t>
            </a:r>
            <a:r>
              <a:rPr b="1" i="1" lang="en-US" sz="2300" spc="-1" strike="noStrike">
                <a:solidFill>
                  <a:srgbClr val="cc3300"/>
                </a:solidFill>
                <a:latin typeface="Times New Roman"/>
              </a:rPr>
              <a:t>S</a:t>
            </a:r>
            <a:r>
              <a:rPr b="1" lang="en-US" sz="23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lang="en-US" sz="2300" spc="-1" strike="noStrike">
                <a:solidFill>
                  <a:srgbClr val="cc3300"/>
                </a:solidFill>
                <a:latin typeface="Times New Roman"/>
              </a:rPr>
              <a:t>($/</a:t>
            </a:r>
            <a:r>
              <a:rPr b="1" lang="en-US" sz="23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£) = $1.60/£, that is a gain of $64,000 per year for 5 yea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884920" y="4735440"/>
            <a:ext cx="25398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swap bank faces exchange rate risk, but maybe they can lay it off (in another swap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54800" y="1600200"/>
            <a:ext cx="2971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4% of $16 million financed with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% of £10 million per year for 5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49680" y="1981080"/>
            <a:ext cx="1752480" cy="1013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515960" y="3733920"/>
            <a:ext cx="1143000" cy="1013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735280" y="3048120"/>
            <a:ext cx="1981080" cy="1143000"/>
            <a:chOff x="2735280" y="3048120"/>
            <a:chExt cx="1981080" cy="1143000"/>
          </a:xfrm>
        </p:grpSpPr>
        <p:sp>
          <p:nvSpPr>
            <p:cNvPr id="549" name=""/>
            <p:cNvSpPr/>
            <p:nvPr/>
          </p:nvSpPr>
          <p:spPr>
            <a:xfrm flipV="1">
              <a:off x="3497040" y="3048120"/>
              <a:ext cx="381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79640" y="3417840"/>
              <a:ext cx="1836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£1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735280" y="373392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354040" y="2514600"/>
            <a:ext cx="1218600" cy="1218960"/>
            <a:chOff x="2354040" y="2514600"/>
            <a:chExt cx="1218600" cy="1218960"/>
          </a:xfrm>
        </p:grpSpPr>
        <p:sp>
          <p:nvSpPr>
            <p:cNvPr id="553" name=""/>
            <p:cNvSpPr/>
            <p:nvPr/>
          </p:nvSpPr>
          <p:spPr>
            <a:xfrm flipH="1">
              <a:off x="2354040" y="3200400"/>
              <a:ext cx="5331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06320" y="2895480"/>
              <a:ext cx="1015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$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115800" y="2514600"/>
              <a:ext cx="456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5478480" y="25146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07080" y="2895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9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49880" y="3048120"/>
            <a:ext cx="1143000" cy="1143000"/>
            <a:chOff x="5249880" y="3048120"/>
            <a:chExt cx="1143000" cy="1143000"/>
          </a:xfrm>
        </p:grpSpPr>
        <p:sp>
          <p:nvSpPr>
            <p:cNvPr id="559" name=""/>
            <p:cNvSpPr/>
            <p:nvPr/>
          </p:nvSpPr>
          <p:spPr>
            <a:xfrm>
              <a:off x="6012000" y="381024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49880" y="304812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78480" y="3429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£1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5.3 Futures Contract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utures contract i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forward contra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pecifies that a certain commodity will be exchanged at a specified time in the future at a price specified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utures contract i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ifferent fro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forw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s are standardized contracts trading on organized exchanges with daily resettlement (“marking to market”) through a clearing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Variations of Basic Swap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cy Sw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for fix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for fl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 for fl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rt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Rate Swa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for fl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 for fl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wap to be possible, two humans must like the idea. Beyond that, creativity is the only lim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Risks of Interest Rate and Currency Swaps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75760" indent="-275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Rat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9400" indent="-2311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est rates might move against the swap bank after it has only gotten half of a swap on the books, or if it has an unhedged pos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9400" indent="-2311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floating rates of the two counterparties are not pegged to the same ind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5760" indent="-275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Rat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9400" indent="-2311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example of a currency swap given earlier, the swap bank would be worse off if the pound apprecia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78640" indent="-278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5880" indent="-233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major risk faced by a swap dealer—the risk that a counter party will default on its end of the swa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match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5880" indent="-233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hard to find a counterparty that wants to borrow the right amount of money for the right amount of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ereign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5880" indent="-233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isk that a country will impose exchange rate restrictions that will interfere with performance on the swa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Risks of Interest Rate and Currency Swaps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Pricing a Swap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wap is a derivative security, so it can be priced in terms of the underlying asse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vanilla fixed for floating swap gets valued just like a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cy swap gets valued just like a nest of currency fu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25.8 Actual Use of Derivative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derivatives do not appear on the balance sheet, they present a challenge to financial economists who wish to observe their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 results appear to support the notion of widespread use of derivatives among large publicly traded fi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currency and interest rate derivatives are the most frequently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10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Quick Quiz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9480" y="1447920"/>
            <a:ext cx="822960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differences between forward and futures con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rocess of valuing a futures contr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y/how corporations would use futures con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Futures Contracts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ndardizing Featu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Mo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aily resettle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izes the chance of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itial Margi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4% of contract val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h or T-bills held in a street name at your broke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2666880"/>
            <a:ext cx="774720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7429"/>
                </a:solidFill>
                <a:latin typeface="Arial"/>
              </a:rPr>
              <a:t>Daily Resettlement: An Example</a:t>
            </a:r>
            <a:endParaRPr b="0" lang="en-US" sz="40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want to speculate on a rise in the $/¥ exchange rate (specifically, you think that the dollar will apprecia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6680" y="2697120"/>
          <a:ext cx="7747200" cy="225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697120"/>
                    <a:ext cx="7747200" cy="225576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1384200" y="2513880"/>
            <a:ext cx="5829120" cy="3182400"/>
            <a:chOff x="1384200" y="2513880"/>
            <a:chExt cx="5829120" cy="3182400"/>
          </a:xfrm>
        </p:grpSpPr>
        <p:sp>
          <p:nvSpPr>
            <p:cNvPr id="115" name=""/>
            <p:cNvSpPr/>
            <p:nvPr/>
          </p:nvSpPr>
          <p:spPr>
            <a:xfrm>
              <a:off x="1384200" y="5181480"/>
              <a:ext cx="392400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1480" bIns="5148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1031760"/>
                  <a:tab algn="l" pos="2063880"/>
                  <a:tab algn="l" pos="3095640"/>
                  <a:tab algn="l" pos="4127400"/>
                  <a:tab algn="l" pos="5159520"/>
                  <a:tab algn="l" pos="6191280"/>
                  <a:tab algn="l" pos="7223040"/>
                  <a:tab algn="l" pos="8255160"/>
                  <a:tab algn="l" pos="9286920"/>
                  <a:tab algn="l" pos="1031868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Currently $1 = ¥140.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260800" y="2513880"/>
              <a:ext cx="4952520" cy="2895480"/>
              <a:chOff x="2260800" y="2513880"/>
              <a:chExt cx="4952520" cy="2895480"/>
            </a:xfrm>
          </p:grpSpPr>
          <p:sp>
            <p:nvSpPr>
              <p:cNvPr id="117" name=""/>
              <p:cNvSpPr/>
              <p:nvPr/>
            </p:nvSpPr>
            <p:spPr>
              <a:xfrm>
                <a:off x="6603840" y="3581280"/>
                <a:ext cx="609480" cy="457200"/>
              </a:xfrm>
              <a:prstGeom prst="ellipse">
                <a:avLst/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2260800" y="2513160"/>
                <a:ext cx="4418640" cy="289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2181600" y="4267080"/>
            <a:ext cx="6098400" cy="1953360"/>
            <a:chOff x="2181600" y="4267080"/>
            <a:chExt cx="6098400" cy="1953360"/>
          </a:xfrm>
        </p:grpSpPr>
        <p:grpSp>
          <p:nvGrpSpPr>
            <p:cNvPr id="120" name=""/>
            <p:cNvGrpSpPr/>
            <p:nvPr/>
          </p:nvGrpSpPr>
          <p:grpSpPr>
            <a:xfrm>
              <a:off x="6604200" y="4267080"/>
              <a:ext cx="1675800" cy="1757160"/>
              <a:chOff x="6604200" y="4267080"/>
              <a:chExt cx="1675800" cy="1757160"/>
            </a:xfrm>
          </p:grpSpPr>
          <p:sp>
            <p:nvSpPr>
              <p:cNvPr id="121" name=""/>
              <p:cNvSpPr/>
              <p:nvPr/>
            </p:nvSpPr>
            <p:spPr>
              <a:xfrm>
                <a:off x="6604200" y="4267080"/>
                <a:ext cx="609480" cy="380880"/>
              </a:xfrm>
              <a:prstGeom prst="ellipse">
                <a:avLst/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04920" y="4419360"/>
                <a:ext cx="1675080" cy="160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46" y="238"/>
                    </a:moveTo>
                    <a:arcTo wR="10800" hR="10800" stAng="-6122701" swAng="103254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46" y="238"/>
                    </a:moveTo>
                    <a:arcTo wR="10800" hR="10800" stAng="-6122701" swAng="10325429"/>
                  </a:path>
                </a:pathLst>
              </a:custGeom>
              <a:noFill/>
              <a:ln w="3816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181600" y="5715000"/>
              <a:ext cx="5622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The 3-month forward price is $1=¥150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Daily Resettlement: An Example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rrently $1 = ¥140, and it appears that the dollar is strengthening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you enter into a 3-month futures contract to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sell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¥ at the rate of $1 = ¥150 you will profit if the yen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depreciat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 The contract size is ¥12,500,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r initial margin is 4% of the contract valu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23880" y="5576760"/>
            <a:ext cx="5961960" cy="1054080"/>
            <a:chOff x="1523880" y="5576760"/>
            <a:chExt cx="5961960" cy="1054080"/>
          </a:xfrm>
        </p:grpSpPr>
        <p:sp>
          <p:nvSpPr>
            <p:cNvPr id="127" name=""/>
            <p:cNvSpPr/>
            <p:nvPr/>
          </p:nvSpPr>
          <p:spPr>
            <a:xfrm>
              <a:off x="1523880" y="5819760"/>
              <a:ext cx="58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$3,333.33 = 0.04 </a:t>
              </a: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  <a:ea typeface="Times New Roman"/>
                </a:rPr>
                <a:t>× </a:t>
              </a: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¥12,500,000 </a:t>
              </a: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  <a:ea typeface="Times New Roman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91960" y="611028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¥1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70160" y="55767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$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6110280"/>
              <a:ext cx="838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7429"/>
                </a:solidFill>
                <a:latin typeface="Arial"/>
              </a:rPr>
              <a:t>Daily Resettlement: An Example</a:t>
            </a:r>
            <a:endParaRPr b="0" lang="en-US" sz="4400" spc="-1" strike="noStrike">
              <a:solidFill>
                <a:srgbClr val="d7742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15328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omorrow the futures rate closes at $1 = ¥149, then your position’s value drops (¥ appreciate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original agreement was to sell ¥12,500,000 and receive $83,333.33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5867280"/>
            <a:ext cx="58341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You have lost $559.29 over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343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¥12,500,000 is now worth $83,892.6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23880" y="3276720"/>
            <a:ext cx="5961960" cy="1053720"/>
            <a:chOff x="1523880" y="3276720"/>
            <a:chExt cx="5961960" cy="1053720"/>
          </a:xfrm>
        </p:grpSpPr>
        <p:sp>
          <p:nvSpPr>
            <p:cNvPr id="136" name=""/>
            <p:cNvSpPr/>
            <p:nvPr/>
          </p:nvSpPr>
          <p:spPr>
            <a:xfrm>
              <a:off x="1523880" y="3519360"/>
              <a:ext cx="58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$83,333.33 = ¥12,500,000 </a:t>
              </a: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  <a:ea typeface="Times New Roman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91960" y="380988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¥1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70160" y="32767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$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3809880"/>
              <a:ext cx="838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447920" y="4800600"/>
            <a:ext cx="5961960" cy="1054080"/>
            <a:chOff x="1447920" y="4800600"/>
            <a:chExt cx="5961960" cy="1054080"/>
          </a:xfrm>
        </p:grpSpPr>
        <p:sp>
          <p:nvSpPr>
            <p:cNvPr id="141" name=""/>
            <p:cNvSpPr/>
            <p:nvPr/>
          </p:nvSpPr>
          <p:spPr>
            <a:xfrm>
              <a:off x="1447920" y="5043600"/>
              <a:ext cx="58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$83,892.62 = ¥12,500,000 </a:t>
              </a: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  <a:ea typeface="Times New Roman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16000" y="533412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¥1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94200" y="48006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44a1a"/>
                  </a:solidFill>
                  <a:latin typeface="Times New Roman"/>
                </a:rPr>
                <a:t>$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7120" y="5334120"/>
              <a:ext cx="838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6:20:40Z</dcterms:created>
  <dc:creator>MHE</dc:creator>
  <dc:description/>
  <dc:language>en-US</dc:language>
  <cp:lastModifiedBy>MHE</cp:lastModifiedBy>
  <dcterms:modified xsi:type="dcterms:W3CDTF">2006-08-23T16:33:39Z</dcterms:modified>
  <cp:revision>2</cp:revision>
  <dc:subject/>
  <dc:title>Slide 1</dc:title>
</cp:coreProperties>
</file>